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英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中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0-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0-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18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22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70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852560" indent="-264960">
              <a:spcBef>
                <a:spcPts val="700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382840" indent="-264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382840" indent="-264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382840" indent="-264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5BAADFB4-D0C0-4382-9909-CCF54D0973B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424640" y="57294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 Apri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35200" y="3137040"/>
            <a:ext cx="6193080" cy="152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lexible Macroblock 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iaozhen Z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aoping 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24640" y="4792680"/>
            <a:ext cx="2519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CTVC-A0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esden, DE, 15-23 April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ww.hisilic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basic idea of proposed technique has been implemented in A1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image contains plentiful text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’s boundary always divides a block into irregular parti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tional quad-tree structured representation can not deal with those cases efficient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70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General idea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more flexible block partitions for inter-frame co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ctangular block can be divided into irregular parti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wo triang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wo unsymmetrical size rectang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e triangle and one pentag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FMP mode coding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Representation of boundary’s pos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Boundary between two blocks can be controlled by points a and 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Use two position parameters’ value and symbol to locate the position of points a and 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Two position parameters (xpos, ypos) are cod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6248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7196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31920" y="4505400"/>
          <a:ext cx="7343640" cy="20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4505400"/>
                    <a:ext cx="73436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FMP mode coding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Simplified representation of boundary’s position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+45 degree partitioning: (1, po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-45 degree partitioning: (pos, 1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Vertical partitioning: (pos, 0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Horizontal partitioning: (0, po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Predictive coding of the position parame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Use neighboring blocks’ position parameter to form the predictor for that of the current macrobloc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Motion Vector Predictor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The motion vectors of neighboring blocks, which has same FMP mode as that of current macroblock,  are used to form current macroblock’s motion vector predic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The position parameters of neighboring blocks are also used to form current macroblock’s motion vector predic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Experimen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Test condition</a:t>
            </a:r>
            <a:r>
              <a:rPr b="0" lang="zh-CN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Implemented in KTA2.6r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Implemented on 16x16 blocksiz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+/- 45 degree partitioning, vertical partitioning and horizontal partitioning are us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Configure to CfP Beta’s configu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5 QP points are chose for every sequences, QP values are same as CfP Beta ancho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Experiment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7200" y="1768320"/>
          <a:ext cx="8929440" cy="3578400"/>
        </p:xfrm>
        <a:graphic>
          <a:graphicData uri="http://schemas.openxmlformats.org/drawingml/2006/table">
            <a:tbl>
              <a:tblPr/>
              <a:tblGrid>
                <a:gridCol w="1498320"/>
                <a:gridCol w="1022400"/>
                <a:gridCol w="1224000"/>
                <a:gridCol w="1224000"/>
                <a:gridCol w="1513080"/>
                <a:gridCol w="1368360"/>
                <a:gridCol w="1079280"/>
              </a:tblGrid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WQ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itrate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PSNR 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W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itrate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PSNR 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3.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2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             </a:t>
                      </a:r>
                      <a:r>
                        <a:rPr b="0" lang="zh-CN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-2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                 </a:t>
                      </a:r>
                      <a:r>
                        <a:rPr b="0" lang="zh-CN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3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-1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黑体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2.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1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3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0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2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2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1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3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4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2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-4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FrutigerNext LT Regular"/>
                          <a:ea typeface="FrutigerNext LT Regular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-2.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2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-2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3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osing remarks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FMP provides more flexible macroblock partition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FMP can get satisfied coding efficiency at the areas with plentiful text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Implemented on P fram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Compression efficiency can be further improved after integrating FMP to 8x8 block and 32x32 bloc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0-04-21T13:04:37Z</dcterms:modified>
  <cp:revision>4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5354239</vt:lpwstr>
  </property>
</Properties>
</file>