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0B8E-81FE-409B-B352-6FC7AAE92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6B31-6EE2-424A-BD52-38113C2BD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A6EC-2A4D-4849-B0D2-0E4FB4602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BEF4-BB48-41E3-B487-55615B5F0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6AFD-0BC0-4FC8-B598-13F779F3C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2889-2BDF-4D3A-9C82-6929D410C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63B1-FD2E-4D59-84AB-2CCD03984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8F11-3A5D-4E24-A30C-6B7C86B0B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A25D-E17F-4514-991C-8A325FA4B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2523-72B3-4A26-BA6F-BFBCEAF24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774B-08FD-4919-ACE8-D2EBBCD65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EFE8-19AB-4DB6-AE17-2C85FBADD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E235-94AB-40DE-8184-BF6928F22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5BC8-AF2D-43DF-B453-53C3A0361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bluebanner02"/>
          <p:cNvPicPr/>
          <p:nvPr/>
        </p:nvPicPr>
        <p:blipFill>
          <a:blip r:embed="rId2"/>
          <a:stretch/>
        </p:blipFill>
        <p:spPr>
          <a:xfrm>
            <a:off x="0" y="6377040"/>
            <a:ext cx="9144000" cy="334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1" descr="stlogo3"/>
          <p:cNvPicPr/>
          <p:nvPr/>
        </p:nvPicPr>
        <p:blipFill>
          <a:blip r:embed="rId3"/>
          <a:stretch/>
        </p:blipFill>
        <p:spPr>
          <a:xfrm>
            <a:off x="8099280" y="228600"/>
            <a:ext cx="809640" cy="48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E876-E7F7-47EA-8250-F00C7541FA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0" y="857160"/>
            <a:ext cx="8879040" cy="0"/>
          </a:xfrm>
          <a:prstGeom prst="line">
            <a:avLst/>
          </a:prstGeom>
          <a:ln w="2844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30"/>
          <p:cNvSpPr/>
          <p:nvPr/>
        </p:nvSpPr>
        <p:spPr>
          <a:xfrm>
            <a:off x="0" y="2863800"/>
            <a:ext cx="8874000" cy="0"/>
          </a:xfrm>
          <a:prstGeom prst="line">
            <a:avLst/>
          </a:prstGeom>
          <a:ln w="381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3" descr="bluebanner02"/>
          <p:cNvPicPr/>
          <p:nvPr/>
        </p:nvPicPr>
        <p:blipFill>
          <a:blip r:embed="rId2"/>
          <a:stretch/>
        </p:blipFill>
        <p:spPr>
          <a:xfrm>
            <a:off x="0" y="6377040"/>
            <a:ext cx="9144000" cy="33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4" descr="stlogo3"/>
          <p:cNvPicPr/>
          <p:nvPr/>
        </p:nvPicPr>
        <p:blipFill>
          <a:blip r:embed="rId3"/>
          <a:stretch/>
        </p:blipFill>
        <p:spPr>
          <a:xfrm>
            <a:off x="8099280" y="228600"/>
            <a:ext cx="809640" cy="482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5680" y="2057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28e"/>
                </a:solidFill>
                <a:latin typeface="Arial"/>
              </a:rPr>
              <a:t>Proposals for video coding complexity assessment</a:t>
            </a:r>
            <a:endParaRPr b="1" lang="en-US" sz="40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5680" y="31618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e Alfo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CTVC-A0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esden, DE, 15-23 April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Remark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xity measurement method shall have good properties of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accuracy, precision, reproducibility </a:t>
            </a:r>
            <a:r>
              <a:rPr b="0" lang="en-US" sz="2000" spc="-1" strike="noStrike">
                <a:solidFill>
                  <a:srgbClr val="00528e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 simpli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Complexity is a multi-dimensional conce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e focused on computation and memory bandwidth, because these factors have the most relevant impact on the implementation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possible to define the computational complexity of an application “per se”: it depends on the application, on the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compiler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on the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CPU Instruction Set Archite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perform simplified complexity estimation over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generic x86 CP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 with the Valgrind tool suite for Linux 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ecessary to specify and agree on the following points: compiler version, optimization level, set of test sequences and configu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8AF3-4DE0-4E7D-8070-188A2D0FFD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roposals to JCT-VC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valuate HVC contributions in terms of both coding efficiency and complexity ef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fine a procedure for complexity assessment, considering the present con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pecify the procedure in a document like 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Recommended simulation common conditions for complexity efficiency experiments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FFB6-8B01-450A-B815-4B49C0FEDF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roperties of a measurement system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of a measure is a </a:t>
            </a:r>
            <a:r>
              <a:rPr b="1" lang="en-US" sz="2400" spc="-1" strike="noStrike">
                <a:solidFill>
                  <a:srgbClr val="00528e"/>
                </a:solidFill>
                <a:latin typeface="Arial"/>
              </a:rPr>
              <a:t>random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lity of a measure is defin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bb03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Accura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oseness of a measured quantity to its tru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bb03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Prec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Repea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degree to which further measurements show the same or similar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desirable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bb03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Reproduci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bility of a test or experiment to be accurately reproduced by someone else working independ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bb03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Simpli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pability to execute measures in an automated way, with limited human inte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137D-1732-4C72-9447-FE9ECAF790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omplexity as execution tim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utational complexity of an application is often estimated by its overall executi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S can put the CPU in one of the following 4 st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Executing in User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CPU is executing the machine code of a process that accesses its own data space in mem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Executing in System 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so known as </a:t>
            </a:r>
            <a:r>
              <a:rPr b="0" lang="en-US" sz="1800" spc="-1" strike="noStrike">
                <a:solidFill>
                  <a:srgbClr val="00528e"/>
                </a:solidFill>
                <a:latin typeface="Arial"/>
              </a:rPr>
              <a:t>Kernel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the CPU is executing a system call made by the process to require the services of the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Idle waiting for I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are sleeping while waiting for the completion of I/O to disk or other block de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I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 processes are ready-to-run on the CPU or are sleeping waiting for block I/O or keyboard input or network I/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24E-287E-45F6-94A2-7DC77FF8A0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Elapsed Time vs. User Tim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overall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elapsed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 accu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ccounts for CPU time spent in idle states and in running other processes, on behalf of the OS or other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w reproduci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pends on the CPU architecture, not only on the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the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user 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s accuracy issues, but it still has low reproduc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measures may have limited precision (see next sli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0014-24CE-4FE3-A731-3CB74EA4B5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Encoding User Time resul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9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R = Variance to Mean Ratio (Index of Disper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able to perform multiple measures and take the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9AB-3150-4F2E-BF4B-BD0D52C229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908760" cy="426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omplexity definition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R) depends only on the CP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s Per Instr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PI) depends on the application, on the compiler and on the CPU and is very hard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simplified complexity 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4506-57A7-4FDA-9440-6A2900756C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"/>
              <p:cNvSpPr txBox="1"/>
              <p:nvPr/>
            </p:nvSpPr>
            <p:spPr>
              <a:xfrm>
                <a:off x="914400" y="1143000"/>
                <a:ext cx="64324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xit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U_time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con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gra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nstruction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gram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lock_cyc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struction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con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lock_cycle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932040" y="3048120"/>
                <a:ext cx="5957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lex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lock_cyc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gra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struction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gram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lock_cyc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structio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C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P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666880" y="5257800"/>
                <a:ext cx="34290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lex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struction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gra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Valgrind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tool suite for debugging and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Instruction and Data Caches sim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cache access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ructions Count (I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cache access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r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ware and open source (GPL 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any Linux distributions as precompiled pack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(latest release dated 19 Aug. 200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easy to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execution slow down by up to 100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cycles per instruction not meas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ize of D-cache accesses not meas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BFB9-0DB3-455C-BC7B-22B819FD82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Valgrind resul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lling tomatoes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equence (1080p2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cache and D-caches accesses for encoding of 1s vid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low VM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ingle measure is su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34D9-173E-46C2-B42A-0F35EFA5D7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94640" cy="129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8594640" cy="129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Valgrind results (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and decoding complexity values, averaged on 4 HD 1080p test sequ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4F91-CB36-4B63-B127-236141D3B8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914400" y="4276800"/>
            <a:ext cx="6858000" cy="19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824040" y="2133720"/>
            <a:ext cx="7024680" cy="188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7:53:50Z</dcterms:created>
  <dc:creator>Daniele Alfonso</dc:creator>
  <dc:description/>
  <dc:language>en-US</dc:language>
  <cp:lastModifiedBy>Daniele Alfonso</cp:lastModifiedBy>
  <cp:lastPrinted>2009-12-10T10:33:55Z</cp:lastPrinted>
  <dcterms:modified xsi:type="dcterms:W3CDTF">2010-04-09T14:36:23Z</dcterms:modified>
  <cp:revision>12</cp:revision>
  <dc:subject/>
  <dc:title>Proposals for video coding complexity assessment</dc:title>
</cp:coreProperties>
</file>