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0331450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677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9680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83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677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9680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38360" y="452520"/>
            <a:ext cx="8751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677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79680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383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677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79680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38360" y="452520"/>
            <a:ext cx="8751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7677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79680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383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7677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79680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38360" y="452520"/>
            <a:ext cx="8751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76776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96800" y="17236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7383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76776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796800" y="4024080"/>
            <a:ext cx="2884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8360" y="452520"/>
            <a:ext cx="8751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29440" y="40240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29440" y="1723680"/>
            <a:ext cx="437220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8360" y="4024080"/>
            <a:ext cx="8959680" cy="2100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532560"/>
            <a:ext cx="10331280" cy="6685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33680" y="6761160"/>
            <a:ext cx="2849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85200" y="6719760"/>
            <a:ext cx="1481040" cy="32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7188120" y="6813360"/>
            <a:ext cx="2370240" cy="4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  <a:defRPr b="0" lang="de-DE" sz="13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AB8A1FB1-864A-41A7-BDFC-CE37C5F391D9}" type="slidenum">
              <a:rPr b="0" lang="de-DE" sz="13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5" name=""/>
          <p:cNvSpPr/>
          <p:nvPr/>
        </p:nvSpPr>
        <p:spPr>
          <a:xfrm>
            <a:off x="10474200" y="4508640"/>
            <a:ext cx="1038240" cy="27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568160" y="5543280"/>
            <a:ext cx="836280" cy="191880"/>
            <a:chOff x="10568160" y="5543280"/>
            <a:chExt cx="836280" cy="191880"/>
          </a:xfrm>
        </p:grpSpPr>
        <p:sp>
          <p:nvSpPr>
            <p:cNvPr id="7" name=""/>
            <p:cNvSpPr/>
            <p:nvPr/>
          </p:nvSpPr>
          <p:spPr>
            <a:xfrm flipV="1">
              <a:off x="10777680" y="5542920"/>
              <a:ext cx="209520" cy="191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>
              <a:off x="10987200" y="5542920"/>
              <a:ext cx="207720" cy="191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11194920" y="5542920"/>
              <a:ext cx="209520" cy="19188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>
              <a:off x="10568160" y="5542920"/>
              <a:ext cx="209520" cy="191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10568160" y="6513480"/>
            <a:ext cx="836280" cy="192240"/>
            <a:chOff x="10568160" y="6513480"/>
            <a:chExt cx="836280" cy="192240"/>
          </a:xfrm>
        </p:grpSpPr>
        <p:sp>
          <p:nvSpPr>
            <p:cNvPr id="12" name=""/>
            <p:cNvSpPr/>
            <p:nvPr/>
          </p:nvSpPr>
          <p:spPr>
            <a:xfrm flipV="1">
              <a:off x="10777680" y="6513480"/>
              <a:ext cx="209520" cy="192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10987200" y="6513480"/>
              <a:ext cx="207720" cy="19224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11194920" y="6513480"/>
              <a:ext cx="209520" cy="192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>
              <a:off x="10568160" y="6513480"/>
              <a:ext cx="209520" cy="192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10568160" y="6771960"/>
            <a:ext cx="836280" cy="191880"/>
            <a:chOff x="10568160" y="6771960"/>
            <a:chExt cx="836280" cy="191880"/>
          </a:xfrm>
        </p:grpSpPr>
        <p:sp>
          <p:nvSpPr>
            <p:cNvPr id="17" name=""/>
            <p:cNvSpPr/>
            <p:nvPr/>
          </p:nvSpPr>
          <p:spPr>
            <a:xfrm flipV="1">
              <a:off x="10777680" y="6771600"/>
              <a:ext cx="209520" cy="191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987200" y="6771600"/>
              <a:ext cx="207720" cy="191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>
              <a:off x="11194920" y="6771600"/>
              <a:ext cx="209520" cy="191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10568160" y="6771600"/>
              <a:ext cx="209520" cy="191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10568160" y="5803920"/>
            <a:ext cx="836280" cy="192240"/>
            <a:chOff x="10568160" y="5803920"/>
            <a:chExt cx="836280" cy="192240"/>
          </a:xfrm>
        </p:grpSpPr>
        <p:sp>
          <p:nvSpPr>
            <p:cNvPr id="22" name=""/>
            <p:cNvSpPr/>
            <p:nvPr/>
          </p:nvSpPr>
          <p:spPr>
            <a:xfrm flipV="1">
              <a:off x="10568160" y="5803920"/>
              <a:ext cx="209520" cy="1922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>
              <a:off x="10777680" y="5803920"/>
              <a:ext cx="209520" cy="1922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V="1">
              <a:off x="10987200" y="5803920"/>
              <a:ext cx="207720" cy="192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V="1">
              <a:off x="11194920" y="5803920"/>
              <a:ext cx="209520" cy="19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" name=""/>
          <p:cNvGrpSpPr/>
          <p:nvPr/>
        </p:nvGrpSpPr>
        <p:grpSpPr>
          <a:xfrm>
            <a:off x="10568160" y="6256080"/>
            <a:ext cx="836280" cy="191880"/>
            <a:chOff x="10568160" y="6256080"/>
            <a:chExt cx="836280" cy="191880"/>
          </a:xfrm>
        </p:grpSpPr>
        <p:sp>
          <p:nvSpPr>
            <p:cNvPr id="27" name=""/>
            <p:cNvSpPr/>
            <p:nvPr/>
          </p:nvSpPr>
          <p:spPr>
            <a:xfrm flipV="1">
              <a:off x="10777680" y="6255720"/>
              <a:ext cx="209520" cy="191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>
              <a:off x="10987200" y="6255720"/>
              <a:ext cx="207720" cy="191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>
              <a:off x="11194920" y="6255720"/>
              <a:ext cx="209520" cy="19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10568160" y="6255720"/>
              <a:ext cx="209520" cy="191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"/>
          <p:cNvGrpSpPr/>
          <p:nvPr/>
        </p:nvGrpSpPr>
        <p:grpSpPr>
          <a:xfrm>
            <a:off x="10568160" y="7032600"/>
            <a:ext cx="836280" cy="192240"/>
            <a:chOff x="10568160" y="7032600"/>
            <a:chExt cx="836280" cy="192240"/>
          </a:xfrm>
        </p:grpSpPr>
        <p:sp>
          <p:nvSpPr>
            <p:cNvPr id="32" name=""/>
            <p:cNvSpPr/>
            <p:nvPr/>
          </p:nvSpPr>
          <p:spPr>
            <a:xfrm flipV="1">
              <a:off x="10777680" y="7032600"/>
              <a:ext cx="209520" cy="192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 flipV="1">
              <a:off x="10987200" y="7032600"/>
              <a:ext cx="207720" cy="192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 flipV="1">
              <a:off x="11194920" y="7032600"/>
              <a:ext cx="209520" cy="19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10568160" y="7032600"/>
              <a:ext cx="209520" cy="192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10568160" y="5284800"/>
            <a:ext cx="836280" cy="193680"/>
            <a:chOff x="10568160" y="5284800"/>
            <a:chExt cx="836280" cy="193680"/>
          </a:xfrm>
        </p:grpSpPr>
        <p:sp>
          <p:nvSpPr>
            <p:cNvPr id="37" name=""/>
            <p:cNvSpPr/>
            <p:nvPr/>
          </p:nvSpPr>
          <p:spPr>
            <a:xfrm flipV="1">
              <a:off x="10777680" y="5284800"/>
              <a:ext cx="209520" cy="1936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10987200" y="5284800"/>
              <a:ext cx="207720" cy="19368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11194920" y="5284800"/>
              <a:ext cx="209520" cy="1936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10568160" y="5284800"/>
              <a:ext cx="209520" cy="193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10568160" y="4830480"/>
            <a:ext cx="836280" cy="191880"/>
            <a:chOff x="10568160" y="4830480"/>
            <a:chExt cx="836280" cy="191880"/>
          </a:xfrm>
        </p:grpSpPr>
        <p:sp>
          <p:nvSpPr>
            <p:cNvPr id="42" name=""/>
            <p:cNvSpPr/>
            <p:nvPr/>
          </p:nvSpPr>
          <p:spPr>
            <a:xfrm flipV="1">
              <a:off x="10987200" y="4830120"/>
              <a:ext cx="207720" cy="191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11194920" y="4830120"/>
              <a:ext cx="209520" cy="1918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10568160" y="4830120"/>
              <a:ext cx="209520" cy="1918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0777680" y="4830120"/>
              <a:ext cx="209520" cy="1918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0568160" y="4573440"/>
            <a:ext cx="836280" cy="192240"/>
            <a:chOff x="10568160" y="4573440"/>
            <a:chExt cx="836280" cy="192240"/>
          </a:xfrm>
        </p:grpSpPr>
        <p:sp>
          <p:nvSpPr>
            <p:cNvPr id="47" name=""/>
            <p:cNvSpPr/>
            <p:nvPr/>
          </p:nvSpPr>
          <p:spPr>
            <a:xfrm flipV="1">
              <a:off x="10987200" y="4573440"/>
              <a:ext cx="207720" cy="1922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1194920" y="4573440"/>
              <a:ext cx="209520" cy="192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0568160" y="4573440"/>
              <a:ext cx="209520" cy="192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0777680" y="4573440"/>
              <a:ext cx="209520" cy="192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98720" indent="-220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536840" indent="-22068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976400" indent="-22068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976400" indent="-22068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976400" indent="-22068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485200" y="5857920"/>
            <a:ext cx="927000" cy="86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822240"/>
            <a:ext cx="10333080" cy="4000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4360" y="1461960"/>
            <a:ext cx="5994360" cy="1749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FrutigerNext LT Medium"/>
              </a:rPr>
              <a:t>Click to edit the title text format</a:t>
            </a:r>
            <a:endParaRPr b="1" lang="en-US" sz="45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91" name=""/>
          <p:cNvSpPr/>
          <p:nvPr/>
        </p:nvSpPr>
        <p:spPr>
          <a:xfrm>
            <a:off x="733680" y="6516720"/>
            <a:ext cx="28494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12960" y="4299120"/>
            <a:ext cx="154800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2"/>
          </p:nvPr>
        </p:nvSpPr>
        <p:spPr>
          <a:xfrm>
            <a:off x="773280" y="297000"/>
            <a:ext cx="2411280" cy="4982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  <a:defRPr b="0" lang="zh-CN" sz="1300" spc="-1" strike="noStrike">
                <a:solidFill>
                  <a:srgbClr val="000000"/>
                </a:solidFill>
                <a:latin typeface="FrutigerNext LT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fld id="{E4D092D6-5715-4B8B-B376-ED3DF0B64DF9}" type="datetime">
              <a:rPr b="0" lang="zh-CN" sz="1300" spc="-1" strike="noStrike">
                <a:solidFill>
                  <a:srgbClr val="000000"/>
                </a:solidFill>
                <a:latin typeface="FrutigerNext LT Regular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516600" y="1684800"/>
            <a:ext cx="92984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华文细黑"/>
              </a:rPr>
              <a:t>Click to edit the outline text format</a:t>
            </a:r>
            <a:endParaRPr b="0" lang="en-US" sz="2300" spc="-1" strike="noStrike">
              <a:solidFill>
                <a:srgbClr val="ffffff"/>
              </a:solidFill>
              <a:latin typeface="华文细黑"/>
            </a:endParaRPr>
          </a:p>
          <a:p>
            <a:pPr lvl="1" marL="439560" algn="ctr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878040" algn="ctr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Next LT Light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FrutigerNext LT Light"/>
            </a:endParaRPr>
          </a:p>
          <a:p>
            <a:pPr lvl="3" marL="1316160" algn="ctr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Next LT Medium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FrutigerNext LT Medium"/>
            </a:endParaRPr>
          </a:p>
          <a:p>
            <a:pPr lvl="4" marL="1755720" algn="ctr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Medium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FrutigerNext LT Medium"/>
            </a:endParaRPr>
          </a:p>
          <a:p>
            <a:pPr lvl="5" marL="1755720">
              <a:spcBef>
                <a:spcPts val="326"/>
              </a:spcBef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Medium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FrutigerNext LT Medium"/>
            </a:endParaRPr>
          </a:p>
          <a:p>
            <a:pPr lvl="6" marL="1755720">
              <a:spcBef>
                <a:spcPts val="326"/>
              </a:spcBef>
              <a:buClr>
                <a:srgbClr val="000000"/>
              </a:buClr>
              <a:buFont typeface="FrutigerNext LT Medium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Next LT Medium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FrutigerNext LT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10333080" cy="720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8360" y="669600"/>
            <a:ext cx="8959680" cy="9126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 fontScale="99000"/>
          </a:bodyPr>
          <a:p>
            <a:pPr marL="325080" indent="-325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07040" indent="-2718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87560" indent="-2181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521360" indent="-21672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56600" indent="-21816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56600" indent="-21816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56600" indent="-21816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7760" y="2238480"/>
            <a:ext cx="2998800" cy="7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FrutigerNext LT Medium"/>
              </a:rPr>
              <a:t>Thank You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47600" y="3497400"/>
            <a:ext cx="27140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8360" y="1800360"/>
            <a:ext cx="741672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br>
              <a:rPr sz="3600"/>
            </a:br>
            <a:r>
              <a:rPr b="1" lang="en-US" sz="4500" spc="-1" strike="noStrike">
                <a:solidFill>
                  <a:srgbClr val="ffffff"/>
                </a:solidFill>
                <a:latin typeface="FrutigerNext LT Medium"/>
                <a:ea typeface="黑体"/>
              </a:rPr>
              <a:t>Multiple Predictor Sets for Intra Coding </a:t>
            </a:r>
            <a:br>
              <a:rPr sz="36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846000" y="3960360"/>
            <a:ext cx="5996160" cy="9082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华文细黑"/>
              </a:rPr>
              <a:t>Lingzhi Liu</a:t>
            </a:r>
            <a:endParaRPr b="0" lang="en-US" sz="1700" spc="-1" strike="noStrike">
              <a:solidFill>
                <a:srgbClr val="ffffff"/>
              </a:solidFill>
              <a:latin typeface="华文细黑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华文细黑"/>
              </a:rPr>
              <a:t>Huawei Technologies Co., LTD.</a:t>
            </a:r>
            <a:endParaRPr b="0" lang="en-US" sz="1700" spc="-1" strike="noStrike">
              <a:solidFill>
                <a:srgbClr val="ffffff"/>
              </a:solidFill>
              <a:latin typeface="华文细黑"/>
            </a:endParaRPr>
          </a:p>
        </p:txBody>
      </p:sp>
      <p:sp>
        <p:nvSpPr>
          <p:cNvPr id="210" name=""/>
          <p:cNvSpPr/>
          <p:nvPr/>
        </p:nvSpPr>
        <p:spPr>
          <a:xfrm>
            <a:off x="414360" y="1008000"/>
            <a:ext cx="1511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华文细黑"/>
                <a:ea typeface="华文细黑"/>
              </a:rPr>
              <a:t>JCTVC-A0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0F78917-F4A6-421F-A7AD-87FCDBED01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Experimental results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-- MPSI + ALF 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0" y="1368360"/>
            <a:ext cx="6213600" cy="544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3BE3E-1A54-428D-8A79-72F872BE5E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FrutigerNext LT Medium"/>
              </a:rPr>
              <a:t>Complexity analysis</a:t>
            </a:r>
            <a:br>
              <a:rPr sz="2600"/>
            </a:br>
            <a:r>
              <a:rPr b="0" lang="en-US" sz="2600" spc="-1" strike="noStrike">
                <a:solidFill>
                  <a:srgbClr val="990000"/>
                </a:solidFill>
                <a:latin typeface="FrutigerNext LT Medium"/>
              </a:rPr>
              <a:t>--Encoding time</a:t>
            </a: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 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58720" y="1871640"/>
            <a:ext cx="4535640" cy="4218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094360" y="1906560"/>
            <a:ext cx="4537080" cy="41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A9F03-C0FC-4720-96B5-1364C16575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Complexity analysis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--Decoding time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01640" y="1728720"/>
            <a:ext cx="4608720" cy="42940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5238720" y="1728720"/>
            <a:ext cx="4392720" cy="432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68B93-3A49-49CD-BA3E-075F78813A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Percentage of predictor se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357280" y="1800360"/>
            <a:ext cx="5975640" cy="44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82D13-8FA1-4FC7-93C5-74ADE509D6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onclusion 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3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A new predictor set with similar subsets as in H.264/AVC is introduced to get better prediction of local images with complex textures.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3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The same method in H.264/AVC can be used to predict the intra prediction mode.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3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MPSI achieves 3.14 % bit reduction at Constraint set 1 and 2 (CABAC), and 3.89% bit reduction at Constraint set 2 (CAVLC) on average.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3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Moreover, MPSI is compatible with other KTA tools, and is able to achieve more coding gain when used together.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87DAC-CEB6-4A14-ACF7-51BDCC65C2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Future work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Extend MPSI to block size larger than 8x8 (16x16, 32x32, etc)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Introduce more predictor sets to improve the accuracy of intra prediction for larger block sizes.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05A17-B427-4836-BDF7-3F0D743ED7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94000" y="2160720"/>
            <a:ext cx="7054560" cy="1676160"/>
          </a:xfrm>
          <a:prstGeom prst="rect">
            <a:avLst/>
          </a:prstGeom>
        </p:spPr>
        <p:txBody>
          <a:bodyPr wrap="none" lIns="87480" rIns="87480" tIns="43560" bIns="4356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hank you!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3" name=""/>
          <p:cNvSpPr/>
          <p:nvPr/>
        </p:nvSpPr>
        <p:spPr>
          <a:xfrm>
            <a:off x="3367080" y="4321080"/>
            <a:ext cx="3672000" cy="5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marL="328680" indent="-328680" algn="ctr">
              <a:lnSpc>
                <a:spcPct val="140000"/>
              </a:lnSpc>
              <a:spcBef>
                <a:spcPts val="1312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lzliu@huawei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BAD6B-2825-4811-9059-C1BA91A70A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36200" y="452520"/>
            <a:ext cx="87534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Agenda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36200" y="1723680"/>
            <a:ext cx="89614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Introduction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Multiple predictor sets for intra coding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Encoding and decoding processes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Experimental results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Complexity analysis 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Conclusion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Future work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B4223-60DA-4198-84EB-BD58951D56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Introduct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Predictor Set in H.264/AVC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Directional Subset: 8 directional predictors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Non-directional Subset: 1 DC predictor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Works well for general sequences but not enough for complex textures.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0">
              <a:lnSpc>
                <a:spcPct val="140000"/>
              </a:lnSpc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782720" y="3456000"/>
            <a:ext cx="7848360" cy="3352680"/>
            <a:chOff x="1782720" y="3456000"/>
            <a:chExt cx="7848360" cy="3352680"/>
          </a:xfrm>
        </p:grpSpPr>
        <p:graphicFrame>
          <p:nvGraphicFramePr>
            <p:cNvPr id="216" name=""/>
            <p:cNvGraphicFramePr/>
            <p:nvPr/>
          </p:nvGraphicFramePr>
          <p:xfrm>
            <a:off x="1782720" y="3456000"/>
            <a:ext cx="3354120" cy="3352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82720" y="3456000"/>
                      <a:ext cx="33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"/>
            <p:cNvSpPr/>
            <p:nvPr/>
          </p:nvSpPr>
          <p:spPr>
            <a:xfrm>
              <a:off x="5607360" y="3655800"/>
              <a:ext cx="4023720" cy="10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2040" bIns="32040" anchor="t">
              <a:spAutoFit/>
            </a:bodyPr>
            <a:p>
              <a:pPr lvl="1" marL="457200">
                <a:lnSpc>
                  <a:spcPct val="140000"/>
                </a:lnSpc>
                <a:buClr>
                  <a:srgbClr val="808080"/>
                </a:buClr>
                <a:buSzPct val="108000"/>
                <a:buFont typeface="Wingdings" charset="2"/>
                <a:buChar char=""/>
                <a:tabLst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rutigerNext LT Regular"/>
                  <a:ea typeface="华文细黑"/>
                </a:rPr>
                <a:t>Directional Subset: 8 Directional Prediction Mo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40000"/>
                </a:lnSpc>
                <a:buClr>
                  <a:srgbClr val="808080"/>
                </a:buClr>
                <a:buSzPct val="108000"/>
                <a:buFont typeface="Wingdings" charset="2"/>
                <a:buChar char=""/>
                <a:tabLst>
                  <a:tab algn="l" pos="878040"/>
                  <a:tab algn="l" pos="1755720"/>
                  <a:tab algn="l" pos="2633760"/>
                  <a:tab algn="l" pos="3511440"/>
                  <a:tab algn="l" pos="4389480"/>
                  <a:tab algn="l" pos="5267160"/>
                  <a:tab algn="l" pos="6145200"/>
                  <a:tab algn="l" pos="7023240"/>
                  <a:tab algn="l" pos="7900920"/>
                  <a:tab algn="l" pos="8778960"/>
                  <a:tab algn="l" pos="9656640"/>
                  <a:tab algn="l" pos="1053468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FrutigerNext LT Regular"/>
                  <a:ea typeface="华文细黑"/>
                </a:rPr>
                <a:t>Non-directional Subset: 1 no-directionnel Mode (DC Mod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79DD2-EE86-45C6-95A4-7AD9CD3FD4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Multiple predictor sets for intra coding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--Idea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Introduce more predictors to improve the accuracy of predictors.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Keep current framework.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Keep the prediction method for intra prediction mode.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Easy extension to  bigger block size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55954-1DF3-42B4-BFC2-ACFD1F69C1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Multiple predictor sets for intra coding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--New predictor set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1 directional subset: 8 predictors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1 non-directional subset: 1 predictor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676520"/>
            <a:ext cx="1033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-43200" bIns="-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167440" y="1440000"/>
          <a:ext cx="4559040" cy="46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7440" y="1440000"/>
                    <a:ext cx="455904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0" y="2500200"/>
            <a:ext cx="1033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-43200" bIns="-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85640" y="3745080"/>
          <a:ext cx="5486400" cy="21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40" y="3745080"/>
                    <a:ext cx="5486400" cy="21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01640" y="5977080"/>
            <a:ext cx="49672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marL="328680" indent="-328680" algn="ctr">
              <a:lnSpc>
                <a:spcPct val="140000"/>
              </a:lnSpc>
              <a:spcBef>
                <a:spcPts val="876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emplate matching as the non-directional predi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67440" y="5832360"/>
            <a:ext cx="516564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marL="328680" indent="-328680" algn="ctr">
              <a:lnSpc>
                <a:spcPct val="140000"/>
              </a:lnSpc>
              <a:spcBef>
                <a:spcPts val="876"/>
              </a:spcBef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Directional subset: Uniformly rotating the directional subset in H.264/AVC of 12.5 degree counterclockwi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DC474-3290-485B-8AA5-6C87AAB582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Encoding and decoding processes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Current two predictor sets are supported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One flag on macroblock level to indicate the selected predictor set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The same method is used to predict intra prediction mode from neighbor blocks in spite of which predictor set it belongs to.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98720" indent="-220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Next LT Light"/>
              </a:rPr>
              <a:t>Reason: the predictors with same intra prediction mode number in different predictor set have similar texture features </a:t>
            </a:r>
            <a:endParaRPr b="0" lang="en-US" sz="1700" spc="-1" strike="noStrike">
              <a:solidFill>
                <a:srgbClr val="000000"/>
              </a:solidFill>
              <a:latin typeface="FrutigerNext LT Light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Syntax change: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98720" indent="0">
              <a:lnSpc>
                <a:spcPct val="140000"/>
              </a:lnSpc>
              <a:buNone/>
              <a:tabLst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0" lang="en-US" sz="1700" spc="-1" strike="noStrike">
              <a:solidFill>
                <a:srgbClr val="000000"/>
              </a:solidFill>
              <a:latin typeface="FrutigerNext LT Light"/>
            </a:endParaRPr>
          </a:p>
        </p:txBody>
      </p:sp>
      <p:sp>
        <p:nvSpPr>
          <p:cNvPr id="233" name=""/>
          <p:cNvSpPr/>
          <p:nvPr/>
        </p:nvSpPr>
        <p:spPr>
          <a:xfrm>
            <a:off x="2555640" y="4754160"/>
            <a:ext cx="458244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f( transform_8x8_mode_flag &amp;&amp; mb_type = = I_NxN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transform_size_8x8_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predictor_set_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5A57B-3106-44AA-836B-A6C67F0D8B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Experimental results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--testing condition 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Jm11.0kta26r1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-328680">
              <a:lnSpc>
                <a:spcPct val="140000"/>
              </a:lnSpc>
              <a:buClr>
                <a:srgbClr val="808080"/>
              </a:buClr>
              <a:buSzPct val="60000"/>
              <a:buFont typeface="Wingdings" charset="2"/>
              <a:buChar char="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utigerNext LT Regular"/>
              </a:rPr>
              <a:t>Constraint set 1 and 2 (All I-frame, CABAC ), Constraint set 2( All I-frame, CAVLC )</a:t>
            </a: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MPSI is applied to Intra 4x4 and Intra 8x8 prediction for all constrain sets 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RDO enabled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RDOQ enabled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Full length CFP test sequences (WQVGA, WVGA, 720P and 1080P)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714240" indent="-27468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Next LT Regular"/>
              </a:rPr>
              <a:t>Use QPs defined in Alpha anchor.</a:t>
            </a:r>
            <a:endParaRPr b="0" lang="en-US" sz="1900" spc="-1" strike="noStrike">
              <a:solidFill>
                <a:srgbClr val="000000"/>
              </a:solidFill>
              <a:latin typeface="FrutigerNext LT Regular"/>
            </a:endParaRPr>
          </a:p>
          <a:p>
            <a:pPr marL="328680"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6BCEF-B6EC-49E0-A644-61A5139B19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Experimental results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--Constraint set 1 and 2 (All I-frame, CABAC ) 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759880"/>
            <a:ext cx="10333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-43200" bIns="-43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782720" y="1368360"/>
            <a:ext cx="6634080" cy="54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D9EDB-ACF9-428B-AF39-BE3BA2A990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8360" y="452520"/>
            <a:ext cx="8751600" cy="9144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>
              <a:buNone/>
              <a:tabLst>
                <a:tab algn="l" pos="0"/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Experimental results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FrutigerNext LT Medium"/>
              </a:rPr>
              <a:t>--Constraint set 2( All I-frame, CAVLC ) </a:t>
            </a:r>
            <a:endParaRPr b="0" lang="en-US" sz="30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38360" y="1723680"/>
            <a:ext cx="8959680" cy="4403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lnSpc>
                <a:spcPct val="140000"/>
              </a:lnSpc>
              <a:buNone/>
              <a:tabLst>
                <a:tab algn="l" pos="878040"/>
                <a:tab algn="l" pos="1755720"/>
                <a:tab algn="l" pos="2633760"/>
                <a:tab algn="l" pos="3511440"/>
                <a:tab algn="l" pos="4389480"/>
                <a:tab algn="l" pos="5267160"/>
                <a:tab algn="l" pos="6145200"/>
                <a:tab algn="l" pos="7023240"/>
                <a:tab algn="l" pos="7900920"/>
                <a:tab algn="l" pos="8778960"/>
                <a:tab algn="l" pos="9656640"/>
                <a:tab algn="l" pos="10534680"/>
              </a:tabLst>
            </a:pPr>
            <a:endParaRPr b="1" lang="en-US" sz="2100" spc="-1" strike="noStrike">
              <a:solidFill>
                <a:srgbClr val="000000"/>
              </a:solidFill>
              <a:latin typeface="FrutigerNext LT Regular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214720" y="1440000"/>
            <a:ext cx="5976720" cy="530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7C205-9307-4E43-A681-CD25400536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6:47:10Z</dcterms:created>
  <dc:creator>yangxia</dc:creator>
  <dc:description/>
  <dc:language>en-US</dc:language>
  <cp:lastModifiedBy>Lingzhi Liu</cp:lastModifiedBy>
  <dcterms:modified xsi:type="dcterms:W3CDTF">2010-04-13T05:07:05Z</dcterms:modified>
  <cp:revision>256</cp:revision>
  <dc:subject/>
  <dc:title>幻灯片 1</dc:title>
</cp:coreProperties>
</file>