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0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1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2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1973-3DEA-4957-9196-35486B59225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7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B1EE-36D6-4187-A3AF-797C6D8B24A9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451B-C004-4D25-9C04-46CBAD6BCF0F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9415-6CC8-4F68-9AB9-6DF2B8C1054B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0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BFE5-9A5A-4ED4-950A-A1A826324D4A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3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F047-B687-493F-BEB2-FBD7FBA861B8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8105-B5D6-45B9-88B7-556DC1C7047D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19F7-017F-4FAF-9CE8-0811030BCA9D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815D-A37B-42D9-A034-FA6FD77FDAA1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A2DB-E90C-4882-8209-FB10814B7C19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8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ADB2-3281-4D31-9D4F-3CE1B1AA6184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9E35-185E-4A23-B5A5-34CF636F65C6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ED70-242F-4721-BD6C-1DF1DC1CF3C1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23EC-4E9F-4A86-82E8-35E59FEB16E8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618F-144F-4FEE-9D07-1B8E17F32AD3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EC6B-DB79-4847-AB13-5BCBFC34BC85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FE7F-4B2D-4BA0-8C83-7BB80E8025F8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8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83E2-87C5-408C-81F9-3969FE2F0692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665C-1B70-40C7-A77E-8B660CDE7841}" type="slidenum">
              <a:rPr b="1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DD6C-5754-4255-8D65-494A477A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85840" y="357516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C90F-F620-4E74-9823-C20AAB00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856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D01E-D452-4FC3-A29C-30C93236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8420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8292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8584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8420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8292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568-D5CB-4C83-B475-916686AF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23A7-EB0A-46F2-B9D9-FA8249B5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830B-C3D5-4899-901B-01B7000B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3DB0-5858-4F9B-9A1E-41D4F874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BD14-2E6D-4761-BE76-03B3F5CE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64F3-377D-4774-8A79-D5381615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285840" y="70920"/>
            <a:ext cx="857232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E77D-3C0A-4B09-849D-36BA5F21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A5C8-7A7A-40A6-9318-7668403F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F1D-0F75-4351-956D-F819172B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856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4A4D-E603-4729-AFCA-B3E6DA44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159F-D0DE-467F-A22F-604A3B11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85840" y="357516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C17F-4DB5-46FE-B48D-D399A835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856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B8A9-0956-47DA-BB3C-6087F268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420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8292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28584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420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8292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FADF-8364-4637-8D3C-23DEC577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3BE04-94CF-41B9-A6D0-DE6A7882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EEB8D-A011-4FAB-B223-90E4EC21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0A8FD-5218-4694-A94B-914A155F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7EB21-F4CA-47A9-9687-08D10DF0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F096C-D88A-4477-9787-D7A49462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D567-DF8A-44BD-A965-3E68E880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85840" y="70920"/>
            <a:ext cx="857232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E7D0E-9D60-4FE5-A521-FECE58D9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08D3F-681E-47CA-9430-BACE7EEF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56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87530-812F-4DBC-BAA9-21AC263F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2FC7F-995B-48C5-92ED-89656B36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85840" y="357516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501C7-2224-47E4-B0F3-13BD6FE2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56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28638-FC90-463A-A09A-880EAD35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420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82920" y="78588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8584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420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82920" y="3575160"/>
            <a:ext cx="27601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B36F1-FF3E-4136-A131-5294071C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2232-C6A8-45B6-B57A-10F88422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DF77-B59F-4E86-A693-20A2A51E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85840" y="70920"/>
            <a:ext cx="857232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561-A2E4-4643-8023-F2C55741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50CC-6763-438C-8838-513DD522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8560" y="357516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113A-72F2-46A5-AC62-49DF8918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5840" y="55800"/>
            <a:ext cx="8572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584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560" y="785880"/>
            <a:ext cx="41832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85840" y="3575160"/>
            <a:ext cx="857232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DD7D-4DD8-4437-9D8E-03F3C117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GE_039"/>
          <p:cNvPicPr/>
          <p:nvPr/>
        </p:nvPicPr>
        <p:blipFill>
          <a:blip r:embed="rId2">
            <a:alphaModFix amt="52000"/>
          </a:blip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직사각형 9"/>
          <p:cNvSpPr/>
          <p:nvPr/>
        </p:nvSpPr>
        <p:spPr>
          <a:xfrm>
            <a:off x="-71280" y="0"/>
            <a:ext cx="9215280" cy="6858000"/>
          </a:xfrm>
          <a:prstGeom prst="rect">
            <a:avLst/>
          </a:prstGeom>
          <a:solidFill>
            <a:srgbClr val="ffffff">
              <a:alpha val="66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5840" y="70920"/>
            <a:ext cx="857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94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24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92A1-BB52-43EF-86AE-E55BBE8BCAD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"/>
          <p:cNvSpPr/>
          <p:nvPr/>
        </p:nvSpPr>
        <p:spPr>
          <a:xfrm>
            <a:off x="6480" y="609480"/>
            <a:ext cx="913752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5"/>
          <p:cNvGrpSpPr/>
          <p:nvPr/>
        </p:nvGrpSpPr>
        <p:grpSpPr>
          <a:xfrm>
            <a:off x="0" y="522360"/>
            <a:ext cx="9137520" cy="117360"/>
            <a:chOff x="0" y="522360"/>
            <a:chExt cx="9137520" cy="117360"/>
          </a:xfrm>
        </p:grpSpPr>
        <p:sp>
          <p:nvSpPr>
            <p:cNvPr id="9" name=""/>
            <p:cNvSpPr/>
            <p:nvPr/>
          </p:nvSpPr>
          <p:spPr>
            <a:xfrm>
              <a:off x="0" y="522360"/>
              <a:ext cx="6653160" cy="117360"/>
            </a:xfrm>
            <a:prstGeom prst="rect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165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653160" y="522360"/>
              <a:ext cx="1944720" cy="117360"/>
            </a:xfrm>
            <a:prstGeom prst="rect">
              <a:avLst/>
            </a:prstGeom>
            <a:gradFill rotWithShape="0">
              <a:gsLst>
                <a:gs pos="0">
                  <a:srgbClr val="bb77ff"/>
                </a:gs>
                <a:gs pos="100000">
                  <a:srgbClr val="993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597880" y="522360"/>
              <a:ext cx="539640" cy="1173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7d7d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65316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9788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13752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522360"/>
              <a:ext cx="9137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39720"/>
              <a:ext cx="9137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LGE_039"/>
          <p:cNvPicPr/>
          <p:nvPr/>
        </p:nvPicPr>
        <p:blipFill>
          <a:blip r:embed="rId2">
            <a:alphaModFix amt="52000"/>
          </a:blip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직사각형 9"/>
          <p:cNvSpPr/>
          <p:nvPr/>
        </p:nvSpPr>
        <p:spPr>
          <a:xfrm>
            <a:off x="-71280" y="0"/>
            <a:ext cx="9215280" cy="6858000"/>
          </a:xfrm>
          <a:prstGeom prst="rect">
            <a:avLst/>
          </a:prstGeom>
          <a:solidFill>
            <a:srgbClr val="ffffff">
              <a:alpha val="66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6480" y="609480"/>
            <a:ext cx="913752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5"/>
          <p:cNvGrpSpPr/>
          <p:nvPr/>
        </p:nvGrpSpPr>
        <p:grpSpPr>
          <a:xfrm>
            <a:off x="0" y="522360"/>
            <a:ext cx="9137520" cy="117360"/>
            <a:chOff x="0" y="522360"/>
            <a:chExt cx="9137520" cy="117360"/>
          </a:xfrm>
        </p:grpSpPr>
        <p:sp>
          <p:nvSpPr>
            <p:cNvPr id="58" name=""/>
            <p:cNvSpPr/>
            <p:nvPr/>
          </p:nvSpPr>
          <p:spPr>
            <a:xfrm>
              <a:off x="0" y="522360"/>
              <a:ext cx="6653160" cy="117360"/>
            </a:xfrm>
            <a:prstGeom prst="rect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165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3160" y="522360"/>
              <a:ext cx="1944720" cy="117360"/>
            </a:xfrm>
            <a:prstGeom prst="rect">
              <a:avLst/>
            </a:prstGeom>
            <a:gradFill rotWithShape="0">
              <a:gsLst>
                <a:gs pos="0">
                  <a:srgbClr val="bb77ff"/>
                </a:gs>
                <a:gs pos="100000">
                  <a:srgbClr val="993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597880" y="522360"/>
              <a:ext cx="539640" cy="1173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7d7d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5316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59788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3752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522360"/>
              <a:ext cx="9137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639720"/>
              <a:ext cx="9137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2" descr="LGE_039"/>
          <p:cNvPicPr/>
          <p:nvPr/>
        </p:nvPicPr>
        <p:blipFill>
          <a:blip r:embed="rId3"/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5840" y="70920"/>
            <a:ext cx="857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294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24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0496-164C-447F-9C04-2AA6842E77D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LGE_039"/>
          <p:cNvPicPr/>
          <p:nvPr/>
        </p:nvPicPr>
        <p:blipFill>
          <a:blip r:embed="rId2">
            <a:alphaModFix amt="52000"/>
          </a:blip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직사각형 9"/>
          <p:cNvSpPr/>
          <p:nvPr/>
        </p:nvSpPr>
        <p:spPr>
          <a:xfrm>
            <a:off x="-71280" y="0"/>
            <a:ext cx="9215280" cy="6858000"/>
          </a:xfrm>
          <a:prstGeom prst="rect">
            <a:avLst/>
          </a:prstGeom>
          <a:solidFill>
            <a:srgbClr val="ffffff">
              <a:alpha val="66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6480" y="609480"/>
            <a:ext cx="913752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5"/>
          <p:cNvGrpSpPr/>
          <p:nvPr/>
        </p:nvGrpSpPr>
        <p:grpSpPr>
          <a:xfrm>
            <a:off x="0" y="522360"/>
            <a:ext cx="9137520" cy="117360"/>
            <a:chOff x="0" y="522360"/>
            <a:chExt cx="9137520" cy="117360"/>
          </a:xfrm>
        </p:grpSpPr>
        <p:sp>
          <p:nvSpPr>
            <p:cNvPr id="113" name=""/>
            <p:cNvSpPr/>
            <p:nvPr/>
          </p:nvSpPr>
          <p:spPr>
            <a:xfrm>
              <a:off x="0" y="522360"/>
              <a:ext cx="6653160" cy="117360"/>
            </a:xfrm>
            <a:prstGeom prst="rect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165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53160" y="522360"/>
              <a:ext cx="1944720" cy="117360"/>
            </a:xfrm>
            <a:prstGeom prst="rect">
              <a:avLst/>
            </a:prstGeom>
            <a:gradFill rotWithShape="0">
              <a:gsLst>
                <a:gs pos="0">
                  <a:srgbClr val="bb77ff"/>
                </a:gs>
                <a:gs pos="100000">
                  <a:srgbClr val="993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597880" y="522360"/>
              <a:ext cx="539640" cy="1173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7d7d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5316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788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37520" y="522360"/>
              <a:ext cx="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522360"/>
              <a:ext cx="9137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639720"/>
              <a:ext cx="9137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33"/>
          <p:cNvSpPr/>
          <p:nvPr/>
        </p:nvSpPr>
        <p:spPr>
          <a:xfrm>
            <a:off x="285840" y="785880"/>
            <a:ext cx="8572320" cy="5340240"/>
          </a:xfrm>
          <a:prstGeom prst="roundRect">
            <a:avLst>
              <a:gd name="adj" fmla="val 16667"/>
            </a:avLst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4000" rIns="23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5840" y="70920"/>
            <a:ext cx="8572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85840" y="785880"/>
            <a:ext cx="857232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294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724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9082-D11A-4926-86CA-80B06C3CF1D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8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3.png"/><Relationship Id="rId20" Type="http://schemas.openxmlformats.org/officeDocument/2006/relationships/image" Target="../media/image16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8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3.png"/><Relationship Id="rId20" Type="http://schemas.openxmlformats.org/officeDocument/2006/relationships/image" Target="../media/image16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ding Tools Using Parametric Representations to Improve Coding Efficiency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G 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693720" y="1922400"/>
            <a:ext cx="139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CTVC-A02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71320" y="1071720"/>
            <a:ext cx="8001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terpolation filter using a few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of individual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PAI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side information for adaptive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quantization error of AIF 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B1C7-B6D0-4B30-9BCD-2B8DC94E3B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Design of parametric filter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85480" y="945720"/>
            <a:ext cx="80010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ivated from Lanczo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s the shape of h.264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843A-5875-488E-A5D6-4C48EB53EE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Object 2" descr=""/>
          <p:cNvPicPr/>
          <p:nvPr/>
        </p:nvPicPr>
        <p:blipFill>
          <a:blip r:embed="rId1"/>
          <a:stretch/>
        </p:blipFill>
        <p:spPr>
          <a:xfrm>
            <a:off x="571680" y="2076480"/>
            <a:ext cx="857160" cy="295200"/>
          </a:xfrm>
          <a:prstGeom prst="rect">
            <a:avLst/>
          </a:prstGeom>
          <a:ln w="0">
            <a:noFill/>
          </a:ln>
        </p:spPr>
      </p:pic>
      <p:pic>
        <p:nvPicPr>
          <p:cNvPr id="308" name="Object 1" descr=""/>
          <p:cNvPicPr/>
          <p:nvPr/>
        </p:nvPicPr>
        <p:blipFill>
          <a:blip r:embed="rId2"/>
          <a:stretch/>
        </p:blipFill>
        <p:spPr>
          <a:xfrm>
            <a:off x="1571760" y="2076480"/>
            <a:ext cx="4049640" cy="314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"/>
          <p:cNvPicPr/>
          <p:nvPr/>
        </p:nvPicPr>
        <p:blipFill>
          <a:blip r:embed="rId3"/>
          <a:stretch/>
        </p:blipFill>
        <p:spPr>
          <a:xfrm>
            <a:off x="5000760" y="2017800"/>
            <a:ext cx="3884400" cy="2911320"/>
          </a:xfrm>
          <a:prstGeom prst="rect">
            <a:avLst/>
          </a:prstGeom>
          <a:ln w="0">
            <a:noFill/>
          </a:ln>
        </p:spPr>
      </p:pic>
      <p:sp>
        <p:nvSpPr>
          <p:cNvPr id="310" name="TextBox 48"/>
          <p:cNvSpPr/>
          <p:nvPr/>
        </p:nvSpPr>
        <p:spPr>
          <a:xfrm>
            <a:off x="5357880" y="4786200"/>
            <a:ext cx="3133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휴먼엑스포"/>
              </a:rPr>
              <a:t>&lt;impulse response  with initial parameters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Object 3" descr=""/>
          <p:cNvPicPr/>
          <p:nvPr/>
        </p:nvPicPr>
        <p:blipFill>
          <a:blip r:embed="rId4"/>
          <a:stretch/>
        </p:blipFill>
        <p:spPr>
          <a:xfrm>
            <a:off x="785880" y="2800440"/>
            <a:ext cx="857160" cy="307800"/>
          </a:xfrm>
          <a:prstGeom prst="rect">
            <a:avLst/>
          </a:prstGeom>
          <a:ln w="0">
            <a:noFill/>
          </a:ln>
        </p:spPr>
      </p:pic>
      <p:pic>
        <p:nvPicPr>
          <p:cNvPr id="312" name="Object 4" descr=""/>
          <p:cNvPicPr/>
          <p:nvPr/>
        </p:nvPicPr>
        <p:blipFill>
          <a:blip r:embed="rId5"/>
          <a:stretch/>
        </p:blipFill>
        <p:spPr>
          <a:xfrm>
            <a:off x="785880" y="3160800"/>
            <a:ext cx="857160" cy="307800"/>
          </a:xfrm>
          <a:prstGeom prst="rect">
            <a:avLst/>
          </a:prstGeom>
          <a:ln w="0">
            <a:noFill/>
          </a:ln>
        </p:spPr>
      </p:pic>
      <p:pic>
        <p:nvPicPr>
          <p:cNvPr id="313" name="Object 5" descr=""/>
          <p:cNvPicPr/>
          <p:nvPr/>
        </p:nvPicPr>
        <p:blipFill>
          <a:blip r:embed="rId6"/>
          <a:stretch/>
        </p:blipFill>
        <p:spPr>
          <a:xfrm>
            <a:off x="1143000" y="3573360"/>
            <a:ext cx="174600" cy="227160"/>
          </a:xfrm>
          <a:prstGeom prst="rect">
            <a:avLst/>
          </a:prstGeom>
          <a:ln w="0">
            <a:noFill/>
          </a:ln>
        </p:spPr>
      </p:pic>
      <p:sp>
        <p:nvSpPr>
          <p:cNvPr id="314" name="TextBox 41"/>
          <p:cNvSpPr/>
          <p:nvPr/>
        </p:nvSpPr>
        <p:spPr>
          <a:xfrm>
            <a:off x="1643040" y="2701800"/>
            <a:ext cx="2786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: [0.5,  1.0],       initially π/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: [0,   π/11],       initially π/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: [-0.1, 0.1],       initially 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Parameter estimation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71320" y="1071720"/>
            <a:ext cx="8001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values are fix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to the standard AVC/H.264 fil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al method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GS Quasi-New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lden section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C980-BB6D-4A65-9684-0500902B17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직선 연결선 20"/>
          <p:cNvSpPr/>
          <p:nvPr/>
        </p:nvSpPr>
        <p:spPr>
          <a:xfrm>
            <a:off x="5238720" y="2714760"/>
            <a:ext cx="0" cy="23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직선 연결선 21"/>
          <p:cNvSpPr/>
          <p:nvPr/>
        </p:nvSpPr>
        <p:spPr>
          <a:xfrm>
            <a:off x="5095800" y="4786200"/>
            <a:ext cx="292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자유형 22"/>
          <p:cNvSpPr/>
          <p:nvPr/>
        </p:nvSpPr>
        <p:spPr>
          <a:xfrm>
            <a:off x="5826240" y="2862360"/>
            <a:ext cx="1944720" cy="1727280"/>
          </a:xfrm>
          <a:custGeom>
            <a:avLst/>
            <a:gdLst/>
            <a:ahLst/>
            <a:rect l="l" t="t" r="r" b="b"/>
            <a:pathLst>
              <a:path w="1945843" h="1727606">
                <a:moveTo>
                  <a:pt x="0" y="0"/>
                </a:moveTo>
                <a:cubicBezTo>
                  <a:pt x="96316" y="420014"/>
                  <a:pt x="192633" y="840029"/>
                  <a:pt x="299923" y="1104595"/>
                </a:cubicBezTo>
                <a:cubicBezTo>
                  <a:pt x="407213" y="1369161"/>
                  <a:pt x="515722" y="1484985"/>
                  <a:pt x="643738" y="1587398"/>
                </a:cubicBezTo>
                <a:cubicBezTo>
                  <a:pt x="771754" y="1689811"/>
                  <a:pt x="935126" y="1727606"/>
                  <a:pt x="1068019" y="1719072"/>
                </a:cubicBezTo>
                <a:cubicBezTo>
                  <a:pt x="1200912" y="1710538"/>
                  <a:pt x="1327709" y="1661770"/>
                  <a:pt x="1441095" y="1536192"/>
                </a:cubicBezTo>
                <a:cubicBezTo>
                  <a:pt x="1554481" y="1410614"/>
                  <a:pt x="1664208" y="1221638"/>
                  <a:pt x="1748333" y="965606"/>
                </a:cubicBezTo>
                <a:cubicBezTo>
                  <a:pt x="1832458" y="709574"/>
                  <a:pt x="1906829" y="160934"/>
                  <a:pt x="1945843" y="0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직선 연결선 23"/>
          <p:cNvSpPr/>
          <p:nvPr/>
        </p:nvSpPr>
        <p:spPr>
          <a:xfrm>
            <a:off x="5967360" y="3635280"/>
            <a:ext cx="357120" cy="785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직선 연결선 24"/>
          <p:cNvSpPr/>
          <p:nvPr/>
        </p:nvSpPr>
        <p:spPr>
          <a:xfrm flipV="1">
            <a:off x="6130800" y="4000680"/>
            <a:ext cx="0" cy="785520"/>
          </a:xfrm>
          <a:prstGeom prst="line">
            <a:avLst/>
          </a:prstGeom>
          <a:ln w="19080">
            <a:solidFill>
              <a:srgbClr val="00b05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직선 연결선 25"/>
          <p:cNvSpPr/>
          <p:nvPr/>
        </p:nvSpPr>
        <p:spPr>
          <a:xfrm flipV="1">
            <a:off x="6453360" y="4429080"/>
            <a:ext cx="0" cy="357120"/>
          </a:xfrm>
          <a:prstGeom prst="line">
            <a:avLst/>
          </a:prstGeom>
          <a:ln w="19080">
            <a:solidFill>
              <a:srgbClr val="00b05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직선 연결선 26"/>
          <p:cNvSpPr/>
          <p:nvPr/>
        </p:nvSpPr>
        <p:spPr>
          <a:xfrm>
            <a:off x="6138720" y="4929120"/>
            <a:ext cx="309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직선 연결선 27"/>
          <p:cNvSpPr/>
          <p:nvPr/>
        </p:nvSpPr>
        <p:spPr>
          <a:xfrm>
            <a:off x="6140520" y="48578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직선 연결선 28"/>
          <p:cNvSpPr/>
          <p:nvPr/>
        </p:nvSpPr>
        <p:spPr>
          <a:xfrm>
            <a:off x="6453360" y="48578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6048360" y="4929120"/>
            <a:ext cx="523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휴먼엑스포"/>
              </a:rPr>
              <a:t>“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휴먼엑스포"/>
              </a:rPr>
              <a:t>α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휴먼엑스포"/>
              </a:rPr>
              <a:t>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직선 화살표 연결선 30"/>
          <p:cNvCxnSpPr/>
          <p:nvPr/>
        </p:nvCxnSpPr>
        <p:spPr>
          <a:xfrm flipV="1">
            <a:off x="6850080" y="4573080"/>
            <a:ext cx="2160" cy="215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329" name="Text Box 5"/>
          <p:cNvSpPr/>
          <p:nvPr/>
        </p:nvSpPr>
        <p:spPr>
          <a:xfrm>
            <a:off x="6548400" y="4848120"/>
            <a:ext cx="619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휴먼엑스포"/>
              </a:rPr>
              <a:t>mi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휴먼엑스포"/>
              </a:rPr>
              <a:t>poin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5286240" y="3357720"/>
            <a:ext cx="80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휴먼엑스포"/>
              </a:rPr>
              <a:t>Direc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휴먼엑스포"/>
              </a:rPr>
              <a:t>Vecto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휴먼엑스포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휴먼엑스포"/>
              </a:rPr>
              <a:t>d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휴먼엑스포"/>
              </a:rPr>
              <a:t>(Gradient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7167600" y="2500200"/>
            <a:ext cx="1119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휴먼엑스포"/>
              </a:rPr>
              <a:t>Error Func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5246640" y="5286240"/>
            <a:ext cx="3540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Determination of d and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굴림"/>
              </a:rPr>
              <a:t>α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by BF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1370160" y="2857680"/>
            <a:ext cx="355896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Parameter coding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71320" y="1071720"/>
            <a:ext cx="8001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form quan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ed Length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2 bits for parameter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bits for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bits for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bits for       (1 bit for sig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30EA-F182-430B-A77E-CB862D8C69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Object 3" descr=""/>
          <p:cNvPicPr/>
          <p:nvPr/>
        </p:nvPicPr>
        <p:blipFill>
          <a:blip r:embed="rId1"/>
          <a:stretch/>
        </p:blipFill>
        <p:spPr>
          <a:xfrm>
            <a:off x="3024360" y="2151000"/>
            <a:ext cx="1000080" cy="358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8" name="Object 1"/>
              <p:cNvSpPr txBox="1"/>
              <p:nvPr/>
            </p:nvSpPr>
            <p:spPr>
              <a:xfrm>
                <a:off x="3000240" y="2509920"/>
                <a:ext cx="10242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2"/>
              <p:cNvSpPr txBox="1"/>
              <p:nvPr/>
            </p:nvSpPr>
            <p:spPr>
              <a:xfrm>
                <a:off x="2500200" y="2890800"/>
                <a:ext cx="21276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Offset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71320" y="1071720"/>
            <a:ext cx="8001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set values are used with a PA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fset value for each reference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ion : not integer but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DA22-8090-49B0-9712-2228B24F79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Experimental results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44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BFAE-2857-4135-BBAC-3A6A5EBC38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785960" y="914400"/>
          <a:ext cx="5451480" cy="5102280"/>
        </p:xfrm>
        <a:graphic>
          <a:graphicData uri="http://schemas.openxmlformats.org/drawingml/2006/table">
            <a:tbl>
              <a:tblPr/>
              <a:tblGrid>
                <a:gridCol w="1368360"/>
                <a:gridCol w="1370160"/>
                <a:gridCol w="998280"/>
                <a:gridCol w="857520"/>
                <a:gridCol w="857160"/>
              </a:tblGrid>
              <a:tr h="371520">
                <a:tc gridSpan="5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High precision h.264 filter as anchor, BD-rate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15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la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eq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inglepass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IF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D-AI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-AI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asketballDri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4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QMa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artySce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7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9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-1.7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RaceHors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3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lass C Avg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asketballPa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4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lowingBubbl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2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1.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QSquar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2.7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1.1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-8.8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RaceHors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6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lass D Avg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4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2.6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Experimental results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47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9856-6549-4868-A064-07624B35C2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tretch/>
        </p:blipFill>
        <p:spPr>
          <a:xfrm>
            <a:off x="866880" y="876240"/>
            <a:ext cx="7410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Experimental results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50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B7B7-DD70-43E5-A8F9-0C89CD8DA2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847800" y="871560"/>
            <a:ext cx="74484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571680" y="1071720"/>
            <a:ext cx="8286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parametric coding tools are propo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WR showed high coding efficiency for the sequences with evident complex mo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tus: -7.08%, Jets: -8.2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WR is a useful coding tool because the zooming, rotation, and panning are frequently used camera mo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IF showed high coding efficiency for most seq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lass C and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C : 0.7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D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2.67% (8.89% at BQSqu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IF showed the probability of improving the existing filter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Conclusion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Adaptive Warped Reference (AWR)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320" y="1071720"/>
            <a:ext cx="8001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itional ME/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use 2D translation to explain every kinds of mo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to explain complex motions: Zoom, 3D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W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plex mo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ses 2D translation motion v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s additional reference pictures by warping reference 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rametric image transformation fun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omograph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8DDA-76E4-42A5-8B59-A87718F7BC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D:\265\warp\doc\frame000049.bmp"/>
          <p:cNvPicPr/>
          <p:nvPr/>
        </p:nvPicPr>
        <p:blipFill>
          <a:blip r:embed="rId1"/>
          <a:srcRect l="0" t="0" r="49899" b="49686"/>
          <a:stretch/>
        </p:blipFill>
        <p:spPr>
          <a:xfrm>
            <a:off x="4578480" y="1660680"/>
            <a:ext cx="3760560" cy="2124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Computation of warping parameters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79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D404-FB2D-42B5-A47E-07DA0F88FB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그림 2" descr="D:\265\warp\doc\frame000000.bmp"/>
          <p:cNvPicPr/>
          <p:nvPr/>
        </p:nvPicPr>
        <p:blipFill>
          <a:blip r:embed="rId2"/>
          <a:srcRect l="0" t="0" r="49832" b="49930"/>
          <a:stretch/>
        </p:blipFill>
        <p:spPr>
          <a:xfrm>
            <a:off x="277920" y="1643040"/>
            <a:ext cx="3867120" cy="21416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0"/>
          <p:cNvSpPr/>
          <p:nvPr/>
        </p:nvSpPr>
        <p:spPr>
          <a:xfrm>
            <a:off x="284040" y="3416400"/>
            <a:ext cx="183564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ference picture (#: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1"/>
          <p:cNvSpPr/>
          <p:nvPr/>
        </p:nvSpPr>
        <p:spPr>
          <a:xfrm>
            <a:off x="4578480" y="3429000"/>
            <a:ext cx="129528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rrent pict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그룹 15" descr=""/>
          <p:cNvPicPr/>
          <p:nvPr/>
        </p:nvPicPr>
        <p:blipFill>
          <a:blip r:embed="rId3"/>
          <a:stretch/>
        </p:blipFill>
        <p:spPr>
          <a:xfrm>
            <a:off x="7527960" y="274968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184" name="그룹 28" descr=""/>
          <p:cNvPicPr/>
          <p:nvPr/>
        </p:nvPicPr>
        <p:blipFill>
          <a:blip r:embed="rId4"/>
          <a:stretch/>
        </p:blipFill>
        <p:spPr>
          <a:xfrm>
            <a:off x="5200560" y="2120760"/>
            <a:ext cx="176400" cy="152640"/>
          </a:xfrm>
          <a:prstGeom prst="rect">
            <a:avLst/>
          </a:prstGeom>
          <a:ln w="0">
            <a:noFill/>
          </a:ln>
        </p:spPr>
      </p:pic>
      <p:pic>
        <p:nvPicPr>
          <p:cNvPr id="185" name="그룹 31" descr=""/>
          <p:cNvPicPr/>
          <p:nvPr/>
        </p:nvPicPr>
        <p:blipFill>
          <a:blip r:embed="rId5"/>
          <a:stretch/>
        </p:blipFill>
        <p:spPr>
          <a:xfrm>
            <a:off x="4675320" y="2895480"/>
            <a:ext cx="171360" cy="152640"/>
          </a:xfrm>
          <a:prstGeom prst="rect">
            <a:avLst/>
          </a:prstGeom>
          <a:ln w="0">
            <a:noFill/>
          </a:ln>
        </p:spPr>
      </p:pic>
      <p:pic>
        <p:nvPicPr>
          <p:cNvPr id="186" name="그룹 34" descr=""/>
          <p:cNvPicPr/>
          <p:nvPr/>
        </p:nvPicPr>
        <p:blipFill>
          <a:blip r:embed="rId6"/>
          <a:stretch/>
        </p:blipFill>
        <p:spPr>
          <a:xfrm>
            <a:off x="4827600" y="304812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187" name="그룹 37" descr=""/>
          <p:cNvPicPr/>
          <p:nvPr/>
        </p:nvPicPr>
        <p:blipFill>
          <a:blip r:embed="rId7"/>
          <a:stretch/>
        </p:blipFill>
        <p:spPr>
          <a:xfrm>
            <a:off x="4973760" y="2365200"/>
            <a:ext cx="171360" cy="152640"/>
          </a:xfrm>
          <a:prstGeom prst="rect">
            <a:avLst/>
          </a:prstGeom>
          <a:ln w="0">
            <a:noFill/>
          </a:ln>
        </p:spPr>
      </p:pic>
      <p:pic>
        <p:nvPicPr>
          <p:cNvPr id="188" name="그룹 43" descr=""/>
          <p:cNvPicPr/>
          <p:nvPr/>
        </p:nvPicPr>
        <p:blipFill>
          <a:blip r:embed="rId8"/>
          <a:stretch/>
        </p:blipFill>
        <p:spPr>
          <a:xfrm>
            <a:off x="6973920" y="2419200"/>
            <a:ext cx="176040" cy="158760"/>
          </a:xfrm>
          <a:prstGeom prst="rect">
            <a:avLst/>
          </a:prstGeom>
          <a:ln w="0">
            <a:noFill/>
          </a:ln>
        </p:spPr>
      </p:pic>
      <p:pic>
        <p:nvPicPr>
          <p:cNvPr id="189" name="그룹 15" descr=""/>
          <p:cNvPicPr/>
          <p:nvPr/>
        </p:nvPicPr>
        <p:blipFill>
          <a:blip r:embed="rId9"/>
          <a:stretch/>
        </p:blipFill>
        <p:spPr>
          <a:xfrm>
            <a:off x="7924680" y="1805040"/>
            <a:ext cx="171720" cy="152280"/>
          </a:xfrm>
          <a:prstGeom prst="rect">
            <a:avLst/>
          </a:prstGeom>
          <a:ln w="0">
            <a:noFill/>
          </a:ln>
        </p:spPr>
      </p:pic>
      <p:pic>
        <p:nvPicPr>
          <p:cNvPr id="190" name="그룹 31" descr=""/>
          <p:cNvPicPr/>
          <p:nvPr/>
        </p:nvPicPr>
        <p:blipFill>
          <a:blip r:embed="rId10"/>
          <a:stretch/>
        </p:blipFill>
        <p:spPr>
          <a:xfrm>
            <a:off x="4827600" y="304812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191" name="그룹 43" descr=""/>
          <p:cNvPicPr/>
          <p:nvPr/>
        </p:nvPicPr>
        <p:blipFill>
          <a:blip r:embed="rId11"/>
          <a:stretch/>
        </p:blipFill>
        <p:spPr>
          <a:xfrm>
            <a:off x="7156440" y="1779480"/>
            <a:ext cx="171360" cy="152640"/>
          </a:xfrm>
          <a:prstGeom prst="rect">
            <a:avLst/>
          </a:prstGeom>
          <a:ln w="0">
            <a:noFill/>
          </a:ln>
        </p:spPr>
      </p:pic>
      <p:pic>
        <p:nvPicPr>
          <p:cNvPr id="192" name="그룹 15" descr=""/>
          <p:cNvPicPr/>
          <p:nvPr/>
        </p:nvPicPr>
        <p:blipFill>
          <a:blip r:embed="rId12"/>
          <a:stretch/>
        </p:blipFill>
        <p:spPr>
          <a:xfrm>
            <a:off x="3565440" y="2779560"/>
            <a:ext cx="177840" cy="152640"/>
          </a:xfrm>
          <a:prstGeom prst="rect">
            <a:avLst/>
          </a:prstGeom>
          <a:ln w="0">
            <a:noFill/>
          </a:ln>
        </p:spPr>
      </p:pic>
      <p:pic>
        <p:nvPicPr>
          <p:cNvPr id="193" name="그룹 28" descr=""/>
          <p:cNvPicPr/>
          <p:nvPr/>
        </p:nvPicPr>
        <p:blipFill>
          <a:blip r:embed="rId13"/>
          <a:stretch/>
        </p:blipFill>
        <p:spPr>
          <a:xfrm>
            <a:off x="895320" y="2011320"/>
            <a:ext cx="177840" cy="158760"/>
          </a:xfrm>
          <a:prstGeom prst="rect">
            <a:avLst/>
          </a:prstGeom>
          <a:ln w="0">
            <a:noFill/>
          </a:ln>
        </p:spPr>
      </p:pic>
      <p:pic>
        <p:nvPicPr>
          <p:cNvPr id="194" name="그룹 31" descr=""/>
          <p:cNvPicPr/>
          <p:nvPr/>
        </p:nvPicPr>
        <p:blipFill>
          <a:blip r:embed="rId14"/>
          <a:stretch/>
        </p:blipFill>
        <p:spPr>
          <a:xfrm>
            <a:off x="371520" y="279252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195" name="그룹 34" descr=""/>
          <p:cNvPicPr/>
          <p:nvPr/>
        </p:nvPicPr>
        <p:blipFill>
          <a:blip r:embed="rId15"/>
          <a:stretch/>
        </p:blipFill>
        <p:spPr>
          <a:xfrm>
            <a:off x="523800" y="294480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196" name="그룹 37" descr=""/>
          <p:cNvPicPr/>
          <p:nvPr/>
        </p:nvPicPr>
        <p:blipFill>
          <a:blip r:embed="rId16"/>
          <a:stretch/>
        </p:blipFill>
        <p:spPr>
          <a:xfrm>
            <a:off x="669960" y="226224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197" name="그룹 43" descr=""/>
          <p:cNvPicPr/>
          <p:nvPr/>
        </p:nvPicPr>
        <p:blipFill>
          <a:blip r:embed="rId17"/>
          <a:stretch/>
        </p:blipFill>
        <p:spPr>
          <a:xfrm>
            <a:off x="2908440" y="2755800"/>
            <a:ext cx="169560" cy="158760"/>
          </a:xfrm>
          <a:prstGeom prst="rect">
            <a:avLst/>
          </a:prstGeom>
          <a:ln w="0">
            <a:noFill/>
          </a:ln>
        </p:spPr>
      </p:pic>
      <p:pic>
        <p:nvPicPr>
          <p:cNvPr id="198" name="그룹 15" descr=""/>
          <p:cNvPicPr/>
          <p:nvPr/>
        </p:nvPicPr>
        <p:blipFill>
          <a:blip r:embed="rId18"/>
          <a:stretch/>
        </p:blipFill>
        <p:spPr>
          <a:xfrm>
            <a:off x="3444840" y="1755720"/>
            <a:ext cx="169920" cy="158760"/>
          </a:xfrm>
          <a:prstGeom prst="rect">
            <a:avLst/>
          </a:prstGeom>
          <a:ln w="0">
            <a:noFill/>
          </a:ln>
        </p:spPr>
      </p:pic>
      <p:pic>
        <p:nvPicPr>
          <p:cNvPr id="199" name="그룹 31" descr=""/>
          <p:cNvPicPr/>
          <p:nvPr/>
        </p:nvPicPr>
        <p:blipFill>
          <a:blip r:embed="rId19"/>
          <a:stretch/>
        </p:blipFill>
        <p:spPr>
          <a:xfrm>
            <a:off x="523800" y="294480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00" name="그룹 43" descr=""/>
          <p:cNvPicPr/>
          <p:nvPr/>
        </p:nvPicPr>
        <p:blipFill>
          <a:blip r:embed="rId20"/>
          <a:stretch/>
        </p:blipFill>
        <p:spPr>
          <a:xfrm>
            <a:off x="2762280" y="2114640"/>
            <a:ext cx="176040" cy="1522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74"/>
          <p:cNvSpPr/>
          <p:nvPr/>
        </p:nvSpPr>
        <p:spPr>
          <a:xfrm>
            <a:off x="2278080" y="714240"/>
            <a:ext cx="6600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ct feature points in a current pict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 Track the detected features in a reference pict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직사각형 78"/>
          <p:cNvSpPr/>
          <p:nvPr/>
        </p:nvSpPr>
        <p:spPr>
          <a:xfrm>
            <a:off x="142920" y="1500120"/>
            <a:ext cx="4214880" cy="24289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직선 화살표 연결선 69"/>
          <p:cNvCxnSpPr/>
          <p:nvPr/>
        </p:nvCxnSpPr>
        <p:spPr>
          <a:xfrm flipH="1">
            <a:off x="2923560" y="1857240"/>
            <a:ext cx="4245480" cy="334080"/>
          </a:xfrm>
          <a:prstGeom prst="straightConnector1">
            <a:avLst/>
          </a:prstGeom>
          <a:ln w="9360">
            <a:solidFill>
              <a:srgbClr val="99ff33"/>
            </a:solidFill>
            <a:miter/>
            <a:tailEnd len="med" type="arrow" w="med"/>
          </a:ln>
        </p:spPr>
      </p:cxnSp>
      <p:cxnSp>
        <p:nvCxnSpPr>
          <p:cNvPr id="205" name="직선 화살표 연결선 72"/>
          <p:cNvCxnSpPr/>
          <p:nvPr/>
        </p:nvCxnSpPr>
        <p:spPr>
          <a:xfrm flipH="1" flipV="1">
            <a:off x="3641400" y="1820160"/>
            <a:ext cx="4293360" cy="73800"/>
          </a:xfrm>
          <a:prstGeom prst="straightConnector1">
            <a:avLst/>
          </a:prstGeom>
          <a:ln w="9360">
            <a:solidFill>
              <a:srgbClr val="99ff33"/>
            </a:solidFill>
            <a:miter/>
            <a:tailEnd len="med" type="arrow" w="med"/>
          </a:ln>
        </p:spPr>
      </p:cxnSp>
      <p:cxnSp>
        <p:nvCxnSpPr>
          <p:cNvPr id="206" name="직선 화살표 연결선 79"/>
          <p:cNvCxnSpPr/>
          <p:nvPr/>
        </p:nvCxnSpPr>
        <p:spPr>
          <a:xfrm flipH="1">
            <a:off x="3068280" y="2483280"/>
            <a:ext cx="3920400" cy="351360"/>
          </a:xfrm>
          <a:prstGeom prst="straightConnector1">
            <a:avLst/>
          </a:prstGeom>
          <a:ln w="9360">
            <a:solidFill>
              <a:srgbClr val="99ff33"/>
            </a:solidFill>
            <a:miter/>
            <a:tailEnd len="med" type="arrow" w="med"/>
          </a:ln>
        </p:spPr>
      </p:cxnSp>
      <p:cxnSp>
        <p:nvCxnSpPr>
          <p:cNvPr id="207" name="직선 화살표 연결선 84"/>
          <p:cNvCxnSpPr/>
          <p:nvPr/>
        </p:nvCxnSpPr>
        <p:spPr>
          <a:xfrm flipH="1">
            <a:off x="3728520" y="2878560"/>
            <a:ext cx="3810960" cy="10440"/>
          </a:xfrm>
          <a:prstGeom prst="straightConnector1">
            <a:avLst/>
          </a:prstGeom>
          <a:ln w="9360">
            <a:solidFill>
              <a:srgbClr val="99ff33"/>
            </a:solidFill>
            <a:miter/>
            <a:tailEnd len="med" type="arrow" w="med"/>
          </a:ln>
        </p:spPr>
      </p:cxnSp>
      <p:cxnSp>
        <p:nvCxnSpPr>
          <p:cNvPr id="208" name="직선 화살표 연결선 87"/>
          <p:cNvCxnSpPr/>
          <p:nvPr/>
        </p:nvCxnSpPr>
        <p:spPr>
          <a:xfrm flipH="1" flipV="1">
            <a:off x="1058400" y="2075760"/>
            <a:ext cx="4077360" cy="106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9" name="직선 화살표 연결선 90"/>
          <p:cNvCxnSpPr/>
          <p:nvPr/>
        </p:nvCxnSpPr>
        <p:spPr>
          <a:xfrm flipH="1" flipV="1">
            <a:off x="909360" y="2321640"/>
            <a:ext cx="3991680" cy="111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0" name="직선 화살표 연결선 95"/>
          <p:cNvCxnSpPr/>
          <p:nvPr/>
        </p:nvCxnSpPr>
        <p:spPr>
          <a:xfrm flipH="1" flipV="1">
            <a:off x="595080" y="2889000"/>
            <a:ext cx="4091760" cy="95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1" name="직선 화살표 연결선 98"/>
          <p:cNvCxnSpPr/>
          <p:nvPr/>
        </p:nvCxnSpPr>
        <p:spPr>
          <a:xfrm flipH="1" flipV="1">
            <a:off x="747360" y="3040920"/>
            <a:ext cx="4091760" cy="96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" descr="D:\265\warp\doc\frame000049.bmp"/>
          <p:cNvPicPr/>
          <p:nvPr/>
        </p:nvPicPr>
        <p:blipFill>
          <a:blip r:embed="rId1"/>
          <a:srcRect l="0" t="0" r="49899" b="49686"/>
          <a:stretch/>
        </p:blipFill>
        <p:spPr>
          <a:xfrm>
            <a:off x="4578480" y="1660680"/>
            <a:ext cx="3760560" cy="2124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Computation of warping parameters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14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F454-5350-4680-8570-D7AB6DEA72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그림 2" descr="D:\265\warp\doc\frame000000.bmp"/>
          <p:cNvPicPr/>
          <p:nvPr/>
        </p:nvPicPr>
        <p:blipFill>
          <a:blip r:embed="rId2"/>
          <a:srcRect l="0" t="0" r="49832" b="49930"/>
          <a:stretch/>
        </p:blipFill>
        <p:spPr>
          <a:xfrm>
            <a:off x="277920" y="1643040"/>
            <a:ext cx="3867120" cy="214164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0"/>
          <p:cNvSpPr/>
          <p:nvPr/>
        </p:nvSpPr>
        <p:spPr>
          <a:xfrm>
            <a:off x="284040" y="3416400"/>
            <a:ext cx="183564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ference picture (#: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4578480" y="3429000"/>
            <a:ext cx="129528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rrent pict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그룹 15" descr=""/>
          <p:cNvPicPr/>
          <p:nvPr/>
        </p:nvPicPr>
        <p:blipFill>
          <a:blip r:embed="rId3"/>
          <a:stretch/>
        </p:blipFill>
        <p:spPr>
          <a:xfrm>
            <a:off x="7527960" y="274968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19" name="그룹 28" descr=""/>
          <p:cNvPicPr/>
          <p:nvPr/>
        </p:nvPicPr>
        <p:blipFill>
          <a:blip r:embed="rId4"/>
          <a:stretch/>
        </p:blipFill>
        <p:spPr>
          <a:xfrm>
            <a:off x="5200560" y="2120760"/>
            <a:ext cx="176400" cy="152640"/>
          </a:xfrm>
          <a:prstGeom prst="rect">
            <a:avLst/>
          </a:prstGeom>
          <a:ln w="0">
            <a:noFill/>
          </a:ln>
        </p:spPr>
      </p:pic>
      <p:pic>
        <p:nvPicPr>
          <p:cNvPr id="220" name="그룹 31" descr=""/>
          <p:cNvPicPr/>
          <p:nvPr/>
        </p:nvPicPr>
        <p:blipFill>
          <a:blip r:embed="rId5"/>
          <a:stretch/>
        </p:blipFill>
        <p:spPr>
          <a:xfrm>
            <a:off x="4675320" y="2895480"/>
            <a:ext cx="171360" cy="152640"/>
          </a:xfrm>
          <a:prstGeom prst="rect">
            <a:avLst/>
          </a:prstGeom>
          <a:ln w="0">
            <a:noFill/>
          </a:ln>
        </p:spPr>
      </p:pic>
      <p:pic>
        <p:nvPicPr>
          <p:cNvPr id="221" name="그룹 34" descr=""/>
          <p:cNvPicPr/>
          <p:nvPr/>
        </p:nvPicPr>
        <p:blipFill>
          <a:blip r:embed="rId6"/>
          <a:stretch/>
        </p:blipFill>
        <p:spPr>
          <a:xfrm>
            <a:off x="4827600" y="304812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22" name="그룹 37" descr=""/>
          <p:cNvPicPr/>
          <p:nvPr/>
        </p:nvPicPr>
        <p:blipFill>
          <a:blip r:embed="rId7"/>
          <a:stretch/>
        </p:blipFill>
        <p:spPr>
          <a:xfrm>
            <a:off x="4973760" y="2365200"/>
            <a:ext cx="171360" cy="152640"/>
          </a:xfrm>
          <a:prstGeom prst="rect">
            <a:avLst/>
          </a:prstGeom>
          <a:ln w="0">
            <a:noFill/>
          </a:ln>
        </p:spPr>
      </p:pic>
      <p:pic>
        <p:nvPicPr>
          <p:cNvPr id="223" name="그룹 43" descr=""/>
          <p:cNvPicPr/>
          <p:nvPr/>
        </p:nvPicPr>
        <p:blipFill>
          <a:blip r:embed="rId8"/>
          <a:stretch/>
        </p:blipFill>
        <p:spPr>
          <a:xfrm>
            <a:off x="6973920" y="2419200"/>
            <a:ext cx="176040" cy="158760"/>
          </a:xfrm>
          <a:prstGeom prst="rect">
            <a:avLst/>
          </a:prstGeom>
          <a:ln w="0">
            <a:noFill/>
          </a:ln>
        </p:spPr>
      </p:pic>
      <p:pic>
        <p:nvPicPr>
          <p:cNvPr id="224" name="그룹 15" descr=""/>
          <p:cNvPicPr/>
          <p:nvPr/>
        </p:nvPicPr>
        <p:blipFill>
          <a:blip r:embed="rId9"/>
          <a:stretch/>
        </p:blipFill>
        <p:spPr>
          <a:xfrm>
            <a:off x="7924680" y="1805040"/>
            <a:ext cx="171720" cy="152280"/>
          </a:xfrm>
          <a:prstGeom prst="rect">
            <a:avLst/>
          </a:prstGeom>
          <a:ln w="0">
            <a:noFill/>
          </a:ln>
        </p:spPr>
      </p:pic>
      <p:pic>
        <p:nvPicPr>
          <p:cNvPr id="225" name="그룹 31" descr=""/>
          <p:cNvPicPr/>
          <p:nvPr/>
        </p:nvPicPr>
        <p:blipFill>
          <a:blip r:embed="rId10"/>
          <a:stretch/>
        </p:blipFill>
        <p:spPr>
          <a:xfrm>
            <a:off x="4827600" y="304812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26" name="그룹 43" descr=""/>
          <p:cNvPicPr/>
          <p:nvPr/>
        </p:nvPicPr>
        <p:blipFill>
          <a:blip r:embed="rId11"/>
          <a:stretch/>
        </p:blipFill>
        <p:spPr>
          <a:xfrm>
            <a:off x="7156440" y="1779480"/>
            <a:ext cx="171360" cy="152640"/>
          </a:xfrm>
          <a:prstGeom prst="rect">
            <a:avLst/>
          </a:prstGeom>
          <a:ln w="0">
            <a:noFill/>
          </a:ln>
        </p:spPr>
      </p:pic>
      <p:pic>
        <p:nvPicPr>
          <p:cNvPr id="227" name="그룹 15" descr=""/>
          <p:cNvPicPr/>
          <p:nvPr/>
        </p:nvPicPr>
        <p:blipFill>
          <a:blip r:embed="rId12"/>
          <a:stretch/>
        </p:blipFill>
        <p:spPr>
          <a:xfrm>
            <a:off x="3565440" y="2779560"/>
            <a:ext cx="177840" cy="152640"/>
          </a:xfrm>
          <a:prstGeom prst="rect">
            <a:avLst/>
          </a:prstGeom>
          <a:ln w="0">
            <a:noFill/>
          </a:ln>
        </p:spPr>
      </p:pic>
      <p:pic>
        <p:nvPicPr>
          <p:cNvPr id="228" name="그룹 28" descr=""/>
          <p:cNvPicPr/>
          <p:nvPr/>
        </p:nvPicPr>
        <p:blipFill>
          <a:blip r:embed="rId13"/>
          <a:stretch/>
        </p:blipFill>
        <p:spPr>
          <a:xfrm>
            <a:off x="895320" y="2011320"/>
            <a:ext cx="177840" cy="158760"/>
          </a:xfrm>
          <a:prstGeom prst="rect">
            <a:avLst/>
          </a:prstGeom>
          <a:ln w="0">
            <a:noFill/>
          </a:ln>
        </p:spPr>
      </p:pic>
      <p:pic>
        <p:nvPicPr>
          <p:cNvPr id="229" name="그룹 31" descr=""/>
          <p:cNvPicPr/>
          <p:nvPr/>
        </p:nvPicPr>
        <p:blipFill>
          <a:blip r:embed="rId14"/>
          <a:stretch/>
        </p:blipFill>
        <p:spPr>
          <a:xfrm>
            <a:off x="371520" y="279252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30" name="그룹 34" descr=""/>
          <p:cNvPicPr/>
          <p:nvPr/>
        </p:nvPicPr>
        <p:blipFill>
          <a:blip r:embed="rId15"/>
          <a:stretch/>
        </p:blipFill>
        <p:spPr>
          <a:xfrm>
            <a:off x="523800" y="294480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31" name="그룹 37" descr=""/>
          <p:cNvPicPr/>
          <p:nvPr/>
        </p:nvPicPr>
        <p:blipFill>
          <a:blip r:embed="rId16"/>
          <a:stretch/>
        </p:blipFill>
        <p:spPr>
          <a:xfrm>
            <a:off x="669960" y="226224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32" name="그룹 43" descr=""/>
          <p:cNvPicPr/>
          <p:nvPr/>
        </p:nvPicPr>
        <p:blipFill>
          <a:blip r:embed="rId17"/>
          <a:stretch/>
        </p:blipFill>
        <p:spPr>
          <a:xfrm>
            <a:off x="2908440" y="2755800"/>
            <a:ext cx="169560" cy="158760"/>
          </a:xfrm>
          <a:prstGeom prst="rect">
            <a:avLst/>
          </a:prstGeom>
          <a:ln w="0">
            <a:noFill/>
          </a:ln>
        </p:spPr>
      </p:pic>
      <p:pic>
        <p:nvPicPr>
          <p:cNvPr id="233" name="그룹 15" descr=""/>
          <p:cNvPicPr/>
          <p:nvPr/>
        </p:nvPicPr>
        <p:blipFill>
          <a:blip r:embed="rId18"/>
          <a:stretch/>
        </p:blipFill>
        <p:spPr>
          <a:xfrm>
            <a:off x="3444840" y="1755720"/>
            <a:ext cx="169920" cy="158760"/>
          </a:xfrm>
          <a:prstGeom prst="rect">
            <a:avLst/>
          </a:prstGeom>
          <a:ln w="0">
            <a:noFill/>
          </a:ln>
        </p:spPr>
      </p:pic>
      <p:pic>
        <p:nvPicPr>
          <p:cNvPr id="234" name="그룹 31" descr=""/>
          <p:cNvPicPr/>
          <p:nvPr/>
        </p:nvPicPr>
        <p:blipFill>
          <a:blip r:embed="rId19"/>
          <a:stretch/>
        </p:blipFill>
        <p:spPr>
          <a:xfrm>
            <a:off x="523800" y="2944800"/>
            <a:ext cx="171360" cy="152280"/>
          </a:xfrm>
          <a:prstGeom prst="rect">
            <a:avLst/>
          </a:prstGeom>
          <a:ln w="0">
            <a:noFill/>
          </a:ln>
        </p:spPr>
      </p:pic>
      <p:pic>
        <p:nvPicPr>
          <p:cNvPr id="235" name="그룹 43" descr=""/>
          <p:cNvPicPr/>
          <p:nvPr/>
        </p:nvPicPr>
        <p:blipFill>
          <a:blip r:embed="rId20"/>
          <a:stretch/>
        </p:blipFill>
        <p:spPr>
          <a:xfrm>
            <a:off x="2762280" y="2114640"/>
            <a:ext cx="176040" cy="1522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70"/>
          <p:cNvSpPr/>
          <p:nvPr/>
        </p:nvSpPr>
        <p:spPr>
          <a:xfrm>
            <a:off x="6461640" y="2220840"/>
            <a:ext cx="6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(x</a:t>
            </a:r>
            <a:r>
              <a:rPr b="1" lang="en-US" sz="1400" spc="-1" strike="noStrike" baseline="-25000">
                <a:solidFill>
                  <a:srgbClr val="99ff33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,y</a:t>
            </a:r>
            <a:r>
              <a:rPr b="1" lang="en-US" sz="1400" spc="-1" strike="noStrike" baseline="-25000">
                <a:solidFill>
                  <a:srgbClr val="99ff33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71"/>
          <p:cNvSpPr/>
          <p:nvPr/>
        </p:nvSpPr>
        <p:spPr>
          <a:xfrm>
            <a:off x="2283480" y="2463840"/>
            <a:ext cx="70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(x</a:t>
            </a:r>
            <a:r>
              <a:rPr b="1" lang="en-US" sz="1400" spc="-1" strike="noStrike" baseline="-25000">
                <a:solidFill>
                  <a:srgbClr val="99ff33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’,y</a:t>
            </a:r>
            <a:r>
              <a:rPr b="1" lang="en-US" sz="1400" spc="-1" strike="noStrike" baseline="-25000">
                <a:solidFill>
                  <a:srgbClr val="99ff33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’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4"/>
          <p:cNvSpPr/>
          <p:nvPr/>
        </p:nvSpPr>
        <p:spPr>
          <a:xfrm>
            <a:off x="1500120" y="714240"/>
            <a:ext cx="737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gment the features into groups so that the features in one group moves toge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 Compute homography parameters H for each group of feat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75"/>
          <p:cNvSpPr/>
          <p:nvPr/>
        </p:nvSpPr>
        <p:spPr>
          <a:xfrm>
            <a:off x="2071800" y="4643280"/>
            <a:ext cx="3643200" cy="1357560"/>
          </a:xfrm>
          <a:prstGeom prst="rect">
            <a:avLst/>
          </a:prstGeom>
          <a:solidFill>
            <a:srgbClr val="99ff3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2189160" y="4786200"/>
                <a:ext cx="31878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직사각형 78"/>
          <p:cNvSpPr/>
          <p:nvPr/>
        </p:nvSpPr>
        <p:spPr>
          <a:xfrm>
            <a:off x="142920" y="1500120"/>
            <a:ext cx="4214880" cy="24289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타원 79"/>
          <p:cNvSpPr/>
          <p:nvPr/>
        </p:nvSpPr>
        <p:spPr>
          <a:xfrm>
            <a:off x="6454800" y="1643040"/>
            <a:ext cx="1884240" cy="1338120"/>
          </a:xfrm>
          <a:prstGeom prst="ellipse">
            <a:avLst/>
          </a:prstGeom>
          <a:noFill/>
          <a:ln w="1908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타원 80"/>
          <p:cNvSpPr/>
          <p:nvPr/>
        </p:nvSpPr>
        <p:spPr>
          <a:xfrm>
            <a:off x="2278080" y="1720800"/>
            <a:ext cx="1884240" cy="1338480"/>
          </a:xfrm>
          <a:prstGeom prst="ellipse">
            <a:avLst/>
          </a:prstGeom>
          <a:noFill/>
          <a:ln w="1908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타원 81"/>
          <p:cNvSpPr/>
          <p:nvPr/>
        </p:nvSpPr>
        <p:spPr>
          <a:xfrm>
            <a:off x="4578480" y="2027160"/>
            <a:ext cx="941400" cy="1338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타원 84"/>
          <p:cNvSpPr/>
          <p:nvPr/>
        </p:nvSpPr>
        <p:spPr>
          <a:xfrm>
            <a:off x="299880" y="1900080"/>
            <a:ext cx="943200" cy="1338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D:\265\warp\doc\frame000049.bmp"/>
          <p:cNvPicPr/>
          <p:nvPr/>
        </p:nvPicPr>
        <p:blipFill>
          <a:blip r:embed="rId1"/>
          <a:srcRect l="0" t="0" r="49899" b="49686"/>
          <a:stretch/>
        </p:blipFill>
        <p:spPr>
          <a:xfrm>
            <a:off x="4578480" y="1660680"/>
            <a:ext cx="3760560" cy="2124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Generating warped reference pictures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49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FF14-3A8B-4224-A91B-BD4DFAB41E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그림 2" descr="D:\265\warp\doc\frame000000.bmp"/>
          <p:cNvPicPr/>
          <p:nvPr/>
        </p:nvPicPr>
        <p:blipFill>
          <a:blip r:embed="rId2"/>
          <a:srcRect l="0" t="0" r="49832" b="49930"/>
          <a:stretch/>
        </p:blipFill>
        <p:spPr>
          <a:xfrm>
            <a:off x="277920" y="1643040"/>
            <a:ext cx="3867120" cy="21416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9"/>
          <p:cNvSpPr/>
          <p:nvPr/>
        </p:nvSpPr>
        <p:spPr>
          <a:xfrm>
            <a:off x="2278080" y="714240"/>
            <a:ext cx="686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rp the reference picture using 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 Insert warped reference pictures to reference picture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284040" y="3416400"/>
            <a:ext cx="183564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ference picture (#: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1"/>
          <p:cNvSpPr/>
          <p:nvPr/>
        </p:nvSpPr>
        <p:spPr>
          <a:xfrm>
            <a:off x="4578480" y="3429000"/>
            <a:ext cx="129528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rrent pict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D:\265\warp\doc\frame000049.bmp"/>
          <p:cNvPicPr/>
          <p:nvPr/>
        </p:nvPicPr>
        <p:blipFill>
          <a:blip r:embed="rId3"/>
          <a:srcRect l="0" t="0" r="49899" b="49686"/>
          <a:stretch/>
        </p:blipFill>
        <p:spPr>
          <a:xfrm>
            <a:off x="277920" y="4237200"/>
            <a:ext cx="3879720" cy="219204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8"/>
          <p:cNvSpPr/>
          <p:nvPr/>
        </p:nvSpPr>
        <p:spPr>
          <a:xfrm>
            <a:off x="325440" y="6059520"/>
            <a:ext cx="238752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arped reference picture (#: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직선 화살표 연결선 72"/>
          <p:cNvCxnSpPr/>
          <p:nvPr/>
        </p:nvCxnSpPr>
        <p:spPr>
          <a:xfrm>
            <a:off x="2210400" y="3784320"/>
            <a:ext cx="6840" cy="4532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</p:cxnSp>
      <p:sp>
        <p:nvSpPr>
          <p:cNvPr id="258" name="직사각형 74"/>
          <p:cNvSpPr/>
          <p:nvPr/>
        </p:nvSpPr>
        <p:spPr>
          <a:xfrm>
            <a:off x="142920" y="1500120"/>
            <a:ext cx="4214880" cy="50785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725400" y="3822840"/>
            <a:ext cx="28465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rp the reference picture using “</a:t>
            </a:r>
            <a:r>
              <a:rPr b="1" lang="en-US" sz="1200" spc="-1" strike="noStrike">
                <a:solidFill>
                  <a:srgbClr val="99ff33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D:\265\warp\doc\frame000049.bmp"/>
          <p:cNvPicPr/>
          <p:nvPr/>
        </p:nvPicPr>
        <p:blipFill>
          <a:blip r:embed="rId1"/>
          <a:srcRect l="0" t="0" r="49899" b="49686"/>
          <a:stretch/>
        </p:blipFill>
        <p:spPr>
          <a:xfrm>
            <a:off x="4578480" y="1660680"/>
            <a:ext cx="3760560" cy="21240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Encoding with AWR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62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7415-C78D-44DB-9C9C-EDB5AF6281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그림 2" descr="D:\265\warp\doc\frame000000.bmp"/>
          <p:cNvPicPr/>
          <p:nvPr/>
        </p:nvPicPr>
        <p:blipFill>
          <a:blip r:embed="rId2"/>
          <a:srcRect l="0" t="0" r="49832" b="49930"/>
          <a:stretch/>
        </p:blipFill>
        <p:spPr>
          <a:xfrm>
            <a:off x="277920" y="1643040"/>
            <a:ext cx="3867120" cy="2141640"/>
          </a:xfrm>
          <a:prstGeom prst="rect">
            <a:avLst/>
          </a:prstGeom>
          <a:ln w="0">
            <a:noFill/>
          </a:ln>
        </p:spPr>
      </p:pic>
      <p:sp>
        <p:nvSpPr>
          <p:cNvPr id="264" name="TextBox 9"/>
          <p:cNvSpPr/>
          <p:nvPr/>
        </p:nvSpPr>
        <p:spPr>
          <a:xfrm>
            <a:off x="2278080" y="714240"/>
            <a:ext cx="68659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mal coding pro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0"/>
          <p:cNvSpPr/>
          <p:nvPr/>
        </p:nvSpPr>
        <p:spPr>
          <a:xfrm>
            <a:off x="284040" y="3416400"/>
            <a:ext cx="183564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ference picture (#: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4578480" y="3429000"/>
            <a:ext cx="129528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rrent pict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D:\265\warp\doc\frame000049.bmp"/>
          <p:cNvPicPr/>
          <p:nvPr/>
        </p:nvPicPr>
        <p:blipFill>
          <a:blip r:embed="rId3"/>
          <a:srcRect l="0" t="0" r="49899" b="49686"/>
          <a:stretch/>
        </p:blipFill>
        <p:spPr>
          <a:xfrm>
            <a:off x="277920" y="4237200"/>
            <a:ext cx="3879720" cy="2192040"/>
          </a:xfrm>
          <a:prstGeom prst="rect">
            <a:avLst/>
          </a:prstGeom>
          <a:ln w="0">
            <a:noFill/>
          </a:ln>
        </p:spPr>
      </p:pic>
      <p:sp>
        <p:nvSpPr>
          <p:cNvPr id="269" name="TextBox 68"/>
          <p:cNvSpPr/>
          <p:nvPr/>
        </p:nvSpPr>
        <p:spPr>
          <a:xfrm>
            <a:off x="325440" y="6059520"/>
            <a:ext cx="2387520" cy="36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arped reference picture (#: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3"/>
          <p:cNvSpPr/>
          <p:nvPr/>
        </p:nvSpPr>
        <p:spPr>
          <a:xfrm>
            <a:off x="5384160" y="4786200"/>
            <a:ext cx="286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code the current pictur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ording to normal coding proc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직사각형 75"/>
          <p:cNvSpPr/>
          <p:nvPr/>
        </p:nvSpPr>
        <p:spPr>
          <a:xfrm>
            <a:off x="142920" y="1500120"/>
            <a:ext cx="4214880" cy="50785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571680" y="1071360"/>
            <a:ext cx="828648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graphy transform function has 8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ping results are very sensitive to quantization errors of the 8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 the displacement vectors of 4 corner points by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der can compute H from the displacement v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homography paramet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converted t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d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d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d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Parameter encoding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3247920" y="2000160"/>
                <a:ext cx="17812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직선 연결선 17"/>
          <p:cNvSpPr/>
          <p:nvPr/>
        </p:nvSpPr>
        <p:spPr>
          <a:xfrm>
            <a:off x="3622680" y="5345280"/>
            <a:ext cx="0" cy="71424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직선 연결선 18"/>
          <p:cNvSpPr/>
          <p:nvPr/>
        </p:nvSpPr>
        <p:spPr>
          <a:xfrm>
            <a:off x="3622680" y="5345280"/>
            <a:ext cx="9381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직선 연결선 21"/>
          <p:cNvSpPr/>
          <p:nvPr/>
        </p:nvSpPr>
        <p:spPr>
          <a:xfrm>
            <a:off x="3622680" y="6059520"/>
            <a:ext cx="9381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직선 연결선 24"/>
          <p:cNvSpPr/>
          <p:nvPr/>
        </p:nvSpPr>
        <p:spPr>
          <a:xfrm>
            <a:off x="4560840" y="5345280"/>
            <a:ext cx="0" cy="71424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직사각형 33"/>
          <p:cNvSpPr/>
          <p:nvPr/>
        </p:nvSpPr>
        <p:spPr>
          <a:xfrm rot="1345800">
            <a:off x="3622320" y="5345280"/>
            <a:ext cx="938160" cy="71424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직선 연결선 34"/>
          <p:cNvSpPr/>
          <p:nvPr/>
        </p:nvSpPr>
        <p:spPr>
          <a:xfrm flipH="1">
            <a:off x="3517560" y="5187960"/>
            <a:ext cx="27612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직선 연결선 35"/>
          <p:cNvSpPr/>
          <p:nvPr/>
        </p:nvSpPr>
        <p:spPr>
          <a:xfrm>
            <a:off x="3789360" y="5187960"/>
            <a:ext cx="87624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직선 연결선 36"/>
          <p:cNvSpPr/>
          <p:nvPr/>
        </p:nvSpPr>
        <p:spPr>
          <a:xfrm>
            <a:off x="3517920" y="5850000"/>
            <a:ext cx="86688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직선 연결선 37"/>
          <p:cNvSpPr/>
          <p:nvPr/>
        </p:nvSpPr>
        <p:spPr>
          <a:xfrm flipH="1">
            <a:off x="4384440" y="5545080"/>
            <a:ext cx="27612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직선 화살표 연결선 74"/>
          <p:cNvCxnSpPr/>
          <p:nvPr/>
        </p:nvCxnSpPr>
        <p:spPr>
          <a:xfrm flipV="1">
            <a:off x="3622320" y="5193720"/>
            <a:ext cx="167040" cy="151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</p:cxnSp>
      <p:cxnSp>
        <p:nvCxnSpPr>
          <p:cNvPr id="286" name="직선 화살표 연결선 76"/>
          <p:cNvCxnSpPr/>
          <p:nvPr/>
        </p:nvCxnSpPr>
        <p:spPr>
          <a:xfrm>
            <a:off x="4559760" y="5344920"/>
            <a:ext cx="105480" cy="214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</p:cxnSp>
      <p:cxnSp>
        <p:nvCxnSpPr>
          <p:cNvPr id="287" name="직선 화살표 연결선 79"/>
          <p:cNvCxnSpPr/>
          <p:nvPr/>
        </p:nvCxnSpPr>
        <p:spPr>
          <a:xfrm flipH="1">
            <a:off x="4384080" y="6058440"/>
            <a:ext cx="176760" cy="153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</p:cxnSp>
      <p:cxnSp>
        <p:nvCxnSpPr>
          <p:cNvPr id="288" name="직선 화살표 연결선 82"/>
          <p:cNvCxnSpPr/>
          <p:nvPr/>
        </p:nvCxnSpPr>
        <p:spPr>
          <a:xfrm flipH="1" flipV="1">
            <a:off x="3517200" y="5849640"/>
            <a:ext cx="105480" cy="210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sm"/>
          </a:ln>
        </p:spPr>
      </p:cxnSp>
      <p:sp>
        <p:nvSpPr>
          <p:cNvPr id="289" name="TextBox 85"/>
          <p:cNvSpPr/>
          <p:nvPr/>
        </p:nvSpPr>
        <p:spPr>
          <a:xfrm>
            <a:off x="3372480" y="4924440"/>
            <a:ext cx="2905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86"/>
          <p:cNvSpPr/>
          <p:nvPr/>
        </p:nvSpPr>
        <p:spPr>
          <a:xfrm>
            <a:off x="3634560" y="4857840"/>
            <a:ext cx="712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d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87"/>
          <p:cNvSpPr/>
          <p:nvPr/>
        </p:nvSpPr>
        <p:spPr>
          <a:xfrm>
            <a:off x="4672800" y="5176800"/>
            <a:ext cx="712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d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88"/>
          <p:cNvSpPr/>
          <p:nvPr/>
        </p:nvSpPr>
        <p:spPr>
          <a:xfrm>
            <a:off x="4440240" y="6059520"/>
            <a:ext cx="712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d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89"/>
          <p:cNvSpPr/>
          <p:nvPr/>
        </p:nvSpPr>
        <p:spPr>
          <a:xfrm>
            <a:off x="3144600" y="6059520"/>
            <a:ext cx="712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d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Experimental results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85840" y="857160"/>
          <a:ext cx="4929120" cy="5827680"/>
        </p:xfrm>
        <a:graphic>
          <a:graphicData uri="http://schemas.openxmlformats.org/drawingml/2006/table">
            <a:tbl>
              <a:tblPr/>
              <a:tblGrid>
                <a:gridCol w="928440"/>
                <a:gridCol w="2557800"/>
                <a:gridCol w="1442880"/>
              </a:tblGrid>
              <a:tr h="306360"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G CfP model as anchor, BD-rate(%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las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equen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W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 rowSpan="6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asketballDriv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0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QTerra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5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actu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-7.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Kimo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arkSce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verag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1.3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rowSpan="5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asketballDril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QMal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6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artySce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4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RaceHors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29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verag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2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 rowSpan="5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asketballPas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5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lowingBubbl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09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QSqua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7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RaceHors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4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verag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4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*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Jets 720p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-8.2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500800" y="857160"/>
            <a:ext cx="3189240" cy="25416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5467320" y="3500280"/>
            <a:ext cx="33908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Introduction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71320" y="1071720"/>
            <a:ext cx="8001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F was proposed in K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energy of prediction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zation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슬라이드 번호 개체 틀 3"/>
          <p:cNvSpPr/>
          <p:nvPr/>
        </p:nvSpPr>
        <p:spPr>
          <a:xfrm>
            <a:off x="67248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6398-3B6A-4E35-91A1-6C6A902CDA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00:33:27Z</dcterms:created>
  <dc:creator>PowerUser</dc:creator>
  <dc:description/>
  <dc:language>en-US</dc:language>
  <cp:lastModifiedBy>박준영</cp:lastModifiedBy>
  <dcterms:modified xsi:type="dcterms:W3CDTF">2010-04-11T07:52:16Z</dcterms:modified>
  <cp:revision>839</cp:revision>
  <dc:subject/>
  <dc:title>슬라이드 1</dc:title>
</cp:coreProperties>
</file>